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569-CEB6-4A1C-B545-2F68301B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95C-964E-49C9-8CB3-8820C6B7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884-195D-46FF-8281-26F1317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6C0-28C2-45A3-A1D4-3E16810C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8DF-69B9-455F-8ED5-FF3AADC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72B-C98E-45FB-AF99-8558B55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4E6-C8FE-4EBB-ADE1-3A2B77D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B1-543F-44F3-84C7-7F9C845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084-7F5E-4991-B170-B0261EA8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79F-BA91-4D12-9DDD-184F5A4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3DB-2741-4966-BF1D-4B90712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6BE-E8A3-4339-9734-6BEC7EDB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9DCC-4D3B-461A-A4FA-4454E9D34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ргономика и дизайн измерительных при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0"/>
          <p:cNvSpPr/>
          <p:nvPr/>
        </p:nvSpPr>
        <p:spPr>
          <a:xfrm>
            <a:off x="457200" y="1447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ргоном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греч. ergon - работа, nomos - закон) - научная дисциплина, комплексно изучающая человека (группу людей) в конкретных условиях его (их) деятельности, связанной с использованием машин (технических средст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1"/>
          <p:cNvSpPr/>
          <p:nvPr/>
        </p:nvSpPr>
        <p:spPr>
          <a:xfrm>
            <a:off x="457200" y="26668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женерная психолог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расль науки, изучающая деятельность человека в системе управления и контроля, его информационное взаимодействие с техническими устройствами этих сис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3"/>
          <p:cNvSpPr/>
          <p:nvPr/>
        </p:nvSpPr>
        <p:spPr>
          <a:xfrm>
            <a:off x="533520" y="380988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задача эргоном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вышение надежности функционирования человеко-машинных систем. Статистика показывает, что наименее надежным элементом таких систем является человек (проявляется так называемый «человеческий фактор»). Одной из наиболее актуальных является задача согласования конструкции машины в той ее части, которая связана с человеком, с его психологическими и физиологическими характерист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4495680" y="375912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видимости в сагиттальной (продольной) плос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49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457200" y="553392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рационального размещения органов управления (зоны досягаемости) в горизонтальной плоскости: I - оптимальная зона; II - зона легкой досягаемости; III - зона досягае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s://konspekta.net/poisk-ruru/baza3/2798868792283.files/image002.jpg"/>
          <p:cNvPicPr/>
          <p:nvPr/>
        </p:nvPicPr>
        <p:blipFill>
          <a:blip r:embed="rId1"/>
          <a:srcRect l="0" t="0" r="9328" b="0"/>
          <a:stretch/>
        </p:blipFill>
        <p:spPr>
          <a:xfrm>
            <a:off x="152280" y="1447920"/>
            <a:ext cx="4724640" cy="4057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5029200" y="2438280"/>
            <a:ext cx="3962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, в частности зоны досягаемости, часто определяются не только размерами частей тела человека, но и скоростью и точностью движений рук в этих зонах. Это правильно с точки зрения практики, а формальные «зоны досягаемости» следует понимать как зоны рационального расположения органов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457200" y="541008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омендуемая высота рабочей поверхности для разных видов и точности работы: 1 - очень точные и тонкие; 2 - точные на пультах; 3 - конторские; 4 - клавиатура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5029200" y="3276720"/>
            <a:ext cx="396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ым параметром является высота рабочей поверхности, на которой находятся основные предметы труда или органы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5529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ологические и 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33520" y="2057400"/>
            <a:ext cx="82296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имо кинематических характеристик движений человека, большое значение имеют временные характеристики, т. е. время, которое проходит от получения человеком-оператором сигнала (например, отклонение стрелки какого-либо прибора на панели) до приведения в действие соответствующего органа управления. Определить это время можно при следующих испытаниях. Испытуемый человек должен с возможной максимальной скоростью выполнить то или иное рабочее движение (нажать кнопку, передвинуть рычаг, повернуть штурвал и т.п.) в ответ на известный ему, но внезапно появляющийся сигнал (вспышка сигнальной лампы, резкий звук). Время реакции складывается из латентного периода и времени моторного (двигательного) ответа. За это отвечают психофизиологические показ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33520" y="480060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Латентный (скрытый) период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ремя от момента возникновения какого-либо раздражителя до появления ответной реакции орган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1600200" y="556272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ильный (прикосновение).....................90...220 м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ховой (звук)...........................................20... 180 мс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рительный (вспышка света)................... 150...220 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533520" y="15238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физиологическим показателям относятся силовые параметры различных органов движения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6705720" y="1905120"/>
            <a:ext cx="2133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жалуй, самыми важными психофизиологическими показателями человека являются характеристики зрения. Это обусловлено тем, что с помощью зрения человек получает 80...90 % всей информации. Глаз способен воспринимать свет на длинах волн примерно от 400 нм до 760 н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5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29000" cy="2292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53" descr=""/>
          <p:cNvPicPr/>
          <p:nvPr/>
        </p:nvPicPr>
        <p:blipFill>
          <a:blip r:embed="rId2"/>
          <a:stretch/>
        </p:blipFill>
        <p:spPr>
          <a:xfrm>
            <a:off x="3733920" y="1523880"/>
            <a:ext cx="2958840" cy="2552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762120" y="403848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 и его восприятие: а - цветовое тел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 - цветовой круг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-8 - яркость цвета (8 - минимальная ярк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"/>
          <p:cNvSpPr/>
          <p:nvPr/>
        </p:nvSpPr>
        <p:spPr>
          <a:xfrm>
            <a:off x="457200" y="4952880"/>
            <a:ext cx="61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 ассоциируется у человека с понятием тепла и холода, приближения и отдаления, легкости и тяжести. Цвета, находящиеся на противоположных сторонах цветового круга, называются взаимодополняющими (например, красный и зеленый). Разные цвета оказывают разное физиологическое воздействие. Кроме цвета, глаз реагирует на яркость и контра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380880" y="1523880"/>
            <a:ext cx="8305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кость — это такая характеристика зрительного раздражителя, которая непосредственно оценивается глазом. Для восприятия необходима не только оптимальная яркость, но и оптимальное соотношение яркостей предметов — контра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омендуются следующие соотношения яркос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:1 — между рабочим полем и ближним фон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:1 — между рабочим полем и дальним фон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0 : 1 — между самым светлым и самым темным пятнами, попадающими в поле зр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й разрешающей способностью по цвету отличаются следующие комбинации при восприятии знаков: синий на белом, черный на желтом, зеленый на белом, черный на белом, зеленый на красном, красный на жел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кция глаз характеризуется полем зрения, скоростью ориентации в поле зрения, остротой зрения, аккомодацией, адаптацией, стробоскопичностью, стереоскопичностью. Поле зрения обоих глаз, при котором обеспечивается правильное восприятие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56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355284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1600200" y="602784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 зрения человека и зона доступности элементов управления и индикации: R — радиус, определяющий границы зоны доступности руками человека-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28600" y="1625040"/>
            <a:ext cx="83818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ота зрения определяется способностью глаза различать детали предметов, характеризуется угловыми единицами и зависит от работающей области глаза, освещенности и подвижности предмет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ккомод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способность глаза приспосабливаться к ясному видению предметов, находящихся от него на различном расстоя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ь ориентации в поле зрения проявляется при наблюдении предметов, расположенных на различных расстояниях от наблюдателя. Например, требуется от 0,6 до 1,2 с для четкого различения предметов, если расстояние до них меняется от 0,1 до 0,5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Адап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изменение чувствительности глаза под воздействием раздражителей. Процесс приспособления глаза к темноте называется темновой адаптацией. При переходе из светлого помещения в темное и через час пребывания в темноте чувствительность глаз увеличивается в 200 тыс. раз. Для адаптации к темноте требуется примерно 20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тробоскопичность глаз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словлена задержкой в восприятии информации. Если информация поступает чаще, чем она может восприниматься, то отдельные ее порции становятся неразличимыми. Глаз различает до 15...20 мерцаний в секунду. Меньшая скорость мерцаний фиксируется глазом как отдельные вспышки, большая — как непрерывный свет. Мерцание изображения утомляет гла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тереоскопичность глаз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яется в том, что человек воспринимает две отдельные картины, хотя при этом может действовать только одно световое раздражение. Стереоскопическое изображение имеет «порог глубины», соответствующий бинокулярному параллаксу 5 угл. с. Радиус стереоскопического зрения 1 350...2 600 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физиологические показ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457200" y="1371600"/>
            <a:ext cx="3886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у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собенностью слуха является способность весьма точно определять направление источника звука, а также оценивать частоту колебаний и силу его. Слуховой аппарат человека способен воспринимать звук в диапазоне частот 16-20000 Гц. Направление и источник звука определяются точнее обоими ушами, чем одним, независимо от удаления источника. Слышимость звука зависит от звукового давления, измеряемого в паскалях. Порог слышимости при частоте 800-2000 Гц состав­ляет около 20 Па. Наилучшая слышимость обеспечивается при частоте звука 2000-4000 Гц. При увеличении или снижении частоты слышимость постепенно падает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4419720" y="13716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з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сязание расширяет у человека способность собирать из внешней среды  дополнительно элементы информации, определять их происхождение, отличать по форме и выяснять положение относительно других предметов в условиях недостаточной. освещенности или когда явление происходит за пределами поля зрения глаз. Наибольшей чувствительностью к тепловым, болевым и тактильным (сопровождающимся прикосновением) изменениям обладает поверхность кожи ладони рук и окончания пальцев. Чувствительная способность кожного покрова расширяет возможности работы оператора в различны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оформление конструкции при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63" descr=""/>
          <p:cNvPicPr/>
          <p:nvPr/>
        </p:nvPicPr>
        <p:blipFill>
          <a:blip r:embed="rId1"/>
          <a:srcRect l="0" t="0" r="0" b="9828"/>
          <a:stretch/>
        </p:blipFill>
        <p:spPr>
          <a:xfrm>
            <a:off x="762120" y="1676520"/>
            <a:ext cx="735012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614240" y="5867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художественного констру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«человек-маш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Система человек — машина"/>
          <p:cNvPicPr/>
          <p:nvPr/>
        </p:nvPicPr>
        <p:blipFill>
          <a:blip r:embed="rId1"/>
          <a:stretch/>
        </p:blipFill>
        <p:spPr>
          <a:xfrm>
            <a:off x="4800600" y="1676520"/>
            <a:ext cx="3962520" cy="4595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228600" y="1600200"/>
            <a:ext cx="4419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а, получив входные данные, поставляет человеку информацию, которую он воспринимает и интерпретирует, используя для этого в качестве устройства для обработки данных свой мозг. Далее человек производит необходимую установку органов управления машиной, что бы изменить ее выходные данные. Таким образом, человек и машина образуют единую систему, в которой используются возможности каждого из них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04920" y="4419720"/>
            <a:ext cx="4495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системы "человек-машин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Рецепторы (органы чувст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Средства отображения информ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Центральная нервная систе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Информационные логические и вычислительные устрой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Эффекторы (органы движ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Органы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связь средств, способов, категорий и критериев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938480" cy="4964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8"/>
          <p:cNvSpPr/>
          <p:nvPr/>
        </p:nvSpPr>
        <p:spPr>
          <a:xfrm>
            <a:off x="5562720" y="2590920"/>
            <a:ext cx="32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 лат. compositia — составление, расположение, сочинение) определяет взаимосвязь важнейших элементов  конструкции художественного произведения и выражает замысел ав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гории ком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80880" y="1143000"/>
            <a:ext cx="845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ектони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ть зримое отображение работы конструкции и  материала в форме, т. е. связь формы и содерж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бъемно-пространственная структур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изует  взаимодействие формы и ее элементов между собой и с окружающим пространств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80880" y="236232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 следующие  конструкции: плоскую (фронтальную), объемную, глубинно-пространственную. Типичный пример плоской конструкции — лицевые панели, характерным признаком которых является взаимное расположение элементов плоской и пространственной формы по двум координатам. Объемную конструкцию представляет форма изделия в целом, которая характеризуется распределением объемов и масс по трем координатам. Все три измерения в композиционном отношении одинаково важны. Глубинно-пространственная структура учитывает размещение одних объектов среди других объектов комплекса и достигается с помощью выбора пропорций и масштаб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380880" y="4114800"/>
            <a:ext cx="8458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Цветовая гармо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с учетом требований эргономических характеристик зрения. Умело сочетая те или иные цвета, можно создать впечатление легкости и тяжести, холода и тепла, простора и тесноты, выступления и отступления элементов и узлов изделия. Цвет необходим для выделения нужных деталей (наиболее важных клавиш, элементов, находящихся под высоким напряжением и т. д.). Для приборов наиболее целесообразно применять  гармонирующие оттенки одного и того же цвета (например, черный, темно-серый, светло-серый или песочный, бежевый, оливковый и т. д.). Это не исключает применения при необходимости контрастирующих цветов: красного - для сигнализации об  аварийном режиме, зеленого - для маломощных элементов индикации, обозначения трубопроводов с водой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и ком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457200" y="1143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с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изуется рядом частных показателей, к которым относятся гармоничность, выразительность, оригинальность, стилевое единство, современность стиля. Все эти критерии взаимосвязаны и носят качественный характер, что затрудняет объективность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457200" y="258912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армон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войство формы конструкции быть органично согласованной с элементами формы, что достигается определенным соотношением размеров, форм, яркости, цвета, расположения отдельных элементов. Требование гармоничности включает в себя требование согласованности с помещением, где располагается конструкци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57200" y="45705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рази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пособность конструкции своим внешним видом наглядно отображать качество, обеспечивая соответствующее эстетическое восприятие. Выразительности добиваются с помощью таких способов и средств композиции, как целостность формы, композиционное равновесие, взаимодействие конструкции и пространств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и ком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533520" y="175248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гин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овокупность своеобразных элементов формы и их отношений, позволяющая отличить данную конструкцию от однотипных. Это понятие предполагает наличие национальных, отраслевых, фирменных призна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и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устойчивая общность формально-художественных средств, отражающая исторически сложившиеся социально-экономические и идейно-эстетические принципы и художественно-конструкторские методы и средства их воплощения. Современность стиля означает согласованность между общим стилем конструкции и лучшими образцами миров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отличие от стиля) представляет собой менее устойчивую общность названных методов и средст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304920" y="1752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ит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средство, обеспечивающее выделение и связь элементов формы путем их повторения, чередования, нарастания, убывания. Ритм сообщает конструкции статическое или динамическое  выражение, он способствует ее более четкому зрительному восприят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72" descr=""/>
          <p:cNvPicPr/>
          <p:nvPr/>
        </p:nvPicPr>
        <p:blipFill>
          <a:blip r:embed="rId1"/>
          <a:srcRect l="6800" t="0" r="0" b="49814"/>
          <a:stretch/>
        </p:blipFill>
        <p:spPr>
          <a:xfrm>
            <a:off x="1371600" y="3200400"/>
            <a:ext cx="6264360" cy="1752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533520" y="4959360"/>
            <a:ext cx="815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итма вариацией шага и толщины линий: 1 — ритм проявляется только в закономерном сокращении стороны квадратов; 2 — активность ритма возрастает с убыванием толщины решетки к центру; 3 — предельно активен ритм при одновременном изменении промежутков и толщины; 4 — ритм нарушен вследствие изменения интервала при неизменной толщине реше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304920" y="1752480"/>
            <a:ext cx="853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ммет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организация элементов конструкции, основанная на правильном их размещении относительно центра или оси. Конструкции, не обладающие симметрией, называются асимметричными. В сознании человека симметрия ассоциируется со статичностью (равновесием), что способствует уменьшению утомляем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380880" y="2971800"/>
            <a:ext cx="838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относительную симметрию (а), когда относительно оси или плоскости уравновешиваются элементы примерно одинакового качества (по форме, размеру, цвету), и контрастную симметрию (б), когда уравновешивание выполняется установлением соотношения величины и взаимного положения различных форм: осевую (ромашка), винтовую (улитка); орнаментальную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15908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952880" y="4648320"/>
            <a:ext cx="246708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2745720" y="632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6098400" y="6324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04920" y="206532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соразмерность частей и форм между собой, а также между собой и целым. От удачно найденного соотношения частей изделия в значительной степени зависят композиционная целостность и гармоничность всего издел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380880" y="3429000"/>
            <a:ext cx="83822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пропорциональности лежат закономерности роста: органического (растения, животные) и неорганического (кристаллы). Так, закономерность органического роста находит отражение в динамике так называемого «золотого» с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определении пропорциональных соотношений в промышленности находят широкое применение ряды предпочтительных чисел (и ряды нормальных размеров, построенные на основе геометрической прогрессии. Большое распространение в технике получили пропорции, связанные с соотношением сторон или площадей 1:2; 2:3 и т. д. Пропорции тесно связаны с другими средствами — контрастом, нюансом, масштабом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457200" y="1371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«Золотого се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62120" y="2523960"/>
            <a:ext cx="2895480" cy="28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rcRect l="0" t="0" r="0" b="6664"/>
          <a:stretch/>
        </p:blipFill>
        <p:spPr>
          <a:xfrm>
            <a:off x="4419720" y="3057480"/>
            <a:ext cx="355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533520" y="1828800"/>
            <a:ext cx="5029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сштаб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рительно-пространственная характеристика размеров конструкции издел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масштабности лежит отношение части к целому, изделия в целом и его частей — к окружающим предметам, к размерам человека. Для получения гармоничного изделия необходимо использовать масштаб, позволяющий сопоставить размеры изделий с размерами человеческого тела. В приборах масштабные характеристики связаны с деталями, размеры которых обусловлены техническими и эргономическими требованиями. Например, клавиши, кнопки имеют относительно постоянные размеры независимо от размеров изделия. Такие элементы носят название указателей масшта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5867280" y="4419720"/>
            <a:ext cx="297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штабное восприятие формы изде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азывают влияние зрительны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люзии. Так, вертикальные формы кажу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009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533520" y="1743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астика и фак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лужат для создания нюансных способов отделки, фактура -для создания тонких контрастов, например противопоставление матовой и полированной поверхности одного и того же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533520" y="3295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(взаимодействие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выделить наиболее важные в композиционном  отношении части. При необходимости сосредоточить на чем-либо внимание взаимодействие объема и пространства в этом месте следует сделать более напряжен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533520" y="5124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подчин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грает большую роль при обеспечении выразительности композиции и целостности формы. Быстрота восприятия композиции во многом зависит от логичности и ясности связей пространственных элементов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функций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е «человек-маш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28600" y="1523880"/>
            <a:ext cx="426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Челове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спознаванию ситуации в целом по её многим сложно связанным характеристикам, а также при неполной информации о 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существлению функций индуктивного вывода, т.е. обобщению отдельных фактов в единую сис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шению задач, в которых отсутствует единый алгоритм или нет четко определённых правил обработки информ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шению задач, в которых требуется гибкость и приспособляемость к изменяющимся условиям, особенно задач, появление которых заранее трудно предвиде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шению задач с высокой ответственностью в случае возникновения ошиб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е творческих задач, связанных с логическим анализом ситуации, оценкой и прогнозом её изменений, должно выполняться челове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724280" y="1600200"/>
            <a:ext cx="4038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ши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полнение всех видов математических расчё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полнение однообразных, постоянно повторяющихся операций, реализуемых по заданному алгорит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хранение и динамическое представление больших объёмов однородной информ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шение задач, требующих дедуктивного вывода, т.е. получения на основе общих правил решений для частных случа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полнение действий, требующих высокой скорости реакции на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машину возлагается выполнение рутинных, повторяющихся операций, в основном комбинаторно-вычислительного характера, а также хранение, обработка и оперативная выдача больших объёмов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мпози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"/>
          <p:cNvSpPr/>
          <p:nvPr/>
        </p:nvSpPr>
        <p:spPr>
          <a:xfrm>
            <a:off x="457200" y="167652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тра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зко выраженное противопоставление друг другу однородных элементов целого (по форме, объему, цвету, размерам, конфигурации и т. д.), которое подчеркивает гармоничность восприятия целого. Те элементы, которые необходимо выделить из общей совокупности, обычно имеют неповторяющуюся форму и окрашиваются в контрастирующие цвета. Сила и слабость контраста - в его выразительности. При чрезмерном контрасте может нарушиться целостность формы и усилиться утомляемость операто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юан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значительное различие между однородными противопоставляемыми элементами целого, позволяющее смягчить контраст. Нюанс может проявляться в пропорциях, ритме (чередовании черных и белых полос), цветовых и тональных отношениях, пластике, построении поверхностей со сложными лекальными образующи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ргономика и дизайн измерительных приб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09480" y="1371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 дизайн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англ. design — замысел, рисунок, проект) понимаются различные виды проектной деятельности, имеющие целью формирование эстетических и функциональных качеств предметно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685800" y="26704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хническая эсте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ет основополагающие методы и принципы художественного конструирования, проблемы стиля и масте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3672360"/>
            <a:ext cx="8382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ргономические показатели конструкции деля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гиенические (освещенность, вентилируемость, температура, напряженность электрического и магнитного полей, токсичность, шум, вибрация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ропометрические (соответствие конструкции изделия размерам и форме тела человека и его частей, входящих в контакт с изделием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ологические и психофизиологические (соответствие конструкции изделия силовым, скоростным, зрительным возможностям человек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(соответствие конструкции изделия возможностям восприятия и переработки информации, закрепленным и вновь формируемым навыкам человек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533520" y="16002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ропометрические характеристики можно условно разделить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словно - потому что все антропометрические характеристики определяются в статике, при неизменной позе обслед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 статическими антропометрическими характерист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ы будем понимать линейные или угловые величины, характеризующие размеры частей тела человека, а под динамическими - линейные и угловые размеры, характеризующие углы вращения в суставах, зоны досягаемости при различных позах человека и т. п. Статические антропометрические характеристики используют для определения общих размеров рабочего места оператора, расположения и размеров сиденья, органов управления и других параметр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е антропометрические характерис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ля назначения амплитуды рабочих движений рычагов, педалей и других органов управления, определения зон досягаемости при различных положениях тела человек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3049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29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152280" y="4572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44" descr=""/>
          <p:cNvPicPr/>
          <p:nvPr/>
        </p:nvPicPr>
        <p:blipFill>
          <a:blip r:embed="rId1"/>
          <a:srcRect l="0" t="0" r="0" b="14860"/>
          <a:stretch/>
        </p:blipFill>
        <p:spPr>
          <a:xfrm>
            <a:off x="685800" y="1523880"/>
            <a:ext cx="76024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33520" y="56386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ропометрические показатели изменяются во времени и различаются в зависимости от пола, возраста, профессии, национальности человека-оп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152280" y="45720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4495680" y="1676520"/>
            <a:ext cx="4496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ими антропометрическими характеристиками явля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видимости, причем эти зоны могут определяться при неизменном положении головы (обзорность обусловливается только движением глаз) или при поворотах и наклонах голо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4648320" y="548640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видимости в вертикальной и горизонтальной плоскостях при повороте: А – только глаз; Б - только голов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– головы и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антропометрически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33520" y="5638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ы движений некоторых частей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1300320"/>
            <a:ext cx="81439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5:23:50Z</dcterms:created>
  <dc:creator>Николай Коваль</dc:creator>
  <dc:description/>
  <dc:language>en-US</dc:language>
  <cp:lastModifiedBy>Иванов</cp:lastModifiedBy>
  <dcterms:modified xsi:type="dcterms:W3CDTF">2022-11-04T06:45:06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