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2E3-B713-4E22-BE1B-B96645A4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8C0-E2E8-4849-B85F-55B28EF6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6A1-1684-4454-BE17-6F226AB3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D07-0587-4FAF-B0A4-41EFBF68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457-D05D-4D06-81AB-697CE115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95D-1F9E-46E2-A063-D583B2D3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57A-FF97-401A-A47E-AA7F9180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A4E-CBF8-47B3-9714-02AC96AB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795-8823-4337-A716-5D0AF449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1A2-A0B3-4645-97B0-65944772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B6E-F96F-4E35-9775-AD06C3B0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38B-5C36-4158-A432-8614BC4B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5307-B301-4EDC-889D-A4CCBCA7A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685800" y="1295280"/>
            <a:ext cx="7924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д технологичностью конструкц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делия понимают совокупность свойств конструкции изделия, определяющих ее приспособленность к достижению оптимальных затрат при производстве, техническом обслуживании и ремонте для заданных показателей качества, объема выпуска и условий выполнения раб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617040" y="289548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3513600" y="289548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луат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6569640" y="28954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мон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533520" y="342900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ность при технологической подготовке производства, изготовлении и монтаже вне предприятия - изготовит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3276720" y="34290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ность при подготовке изделия к использованию по назначению, техническом обслуживании, текущем ремонте и ути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6248520" y="34290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ность при всех видах ремонта, кроме тек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1"/>
          <p:cNvSpPr/>
          <p:nvPr/>
        </p:nvSpPr>
        <p:spPr>
          <a:xfrm>
            <a:off x="685800" y="2397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0" y="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rcRect l="0" t="0" r="0" b="31324"/>
          <a:stretch/>
        </p:blipFill>
        <p:spPr>
          <a:xfrm>
            <a:off x="304920" y="1752480"/>
            <a:ext cx="644832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7"/>
          <p:cNvSpPr/>
          <p:nvPr/>
        </p:nvSpPr>
        <p:spPr>
          <a:xfrm>
            <a:off x="152280" y="9255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дополнительным показателям технологичности конструкции электромеханических и механических изделий относ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1"/>
          <p:cNvSpPr/>
          <p:nvPr/>
        </p:nvSpPr>
        <p:spPr>
          <a:xfrm>
            <a:off x="685800" y="2397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629320" cy="42292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7"/>
          <p:cNvSpPr/>
          <p:nvPr/>
        </p:nvSpPr>
        <p:spPr>
          <a:xfrm>
            <a:off x="152280" y="9255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дополнительным показателям технологичности конструкции электромеханических и механических изделий относ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685800" y="2397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0" y="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7382160" cy="2428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7"/>
          <p:cNvSpPr/>
          <p:nvPr/>
        </p:nvSpPr>
        <p:spPr>
          <a:xfrm>
            <a:off x="152280" y="9255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дополнительным показателям технологичности конструкции электромеханических и механических изделий относ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685800" y="2397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152280" y="9255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дополнительным показателям технологичности конструкции электронных или радиотехнических изделий относ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351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1"/>
          <p:cNvSpPr/>
          <p:nvPr/>
        </p:nvSpPr>
        <p:spPr>
          <a:xfrm>
            <a:off x="685800" y="2397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0" y="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380880" y="1397880"/>
            <a:ext cx="83822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ответствии с ранее рассмотренными методами оценки технологичности конструкции изделия предлагается следующая его последователь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Качественная оценка технологичности конструкции разработанных вариантов. Выбор на этой основе наиболее рациональных конструкций, которые в дальнейшем подвергаются количественной оцен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Количественная оценка технологичности вариантов, отработанных на основе качественной оценк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выбор из общей номенклатуры ограниченного количества показателей, наиболее полно соответствующих особенностям конструкций сравниваемых издел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расчет показателей технологич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оценка вариантов с помощью количественных показателей, выбор наилучшего вариа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ценка уровня технологичности наилучшего, принятого для внедрения варианта конструк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пределение базовых показателей технологичности конструкции изделия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б) определение показателей уровня технологич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анализ показателей уровня технологичности с целью улучшения уровня технологичности конструкции издел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Заголовок 1"/>
          <p:cNvSpPr/>
          <p:nvPr/>
        </p:nvSpPr>
        <p:spPr>
          <a:xfrm>
            <a:off x="685800" y="2397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0" y="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380880" y="1503000"/>
            <a:ext cx="8382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лекс работ по снижению трудоемкости и себестоимости изготовления изделия и его монтаже вне предприятия-изготовителя в общем случае включ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серийности изделия и его составных частей при изготовлении (обработка, сборка, испытание) посредством стандартизации, унификации и обеспечения конструктивного подоби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ограничение номенклатуры составных частей, конструктивных элементов и применяемых материалов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нение в разрабатываемых конструкциях, освоенных в производстве конструктивных решений, соответствующих современным требовани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нение высокопроизводительных и малоотходных технологических решений, основанных на типизации процессов и других прогрессивных формах их орган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нение высокопроизводительных стандартных средств технологического оснащения, обеспечивающих оптимальный уровень механизации и автоматизации труда в производств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ие конструктивных решений, позволяющих снизить затраты на обеспечение: доступа к составным частям; установки и съема составных частей изделия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ие конструктивных решений, обеспечивающих возможность транспортирования изделия в собранном виде или в виде законченных составных частей, не требующих при монтаже разборки для расконсервации, ревизии, а также операций по подгонк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ие конструктивных решений, облегчающих и упрощающих условия изготовления и монтажа вне предприятия-изготовителя для ограничения требований к квалификации изготовителей и монтаж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Заголовок 1"/>
          <p:cNvSpPr/>
          <p:nvPr/>
        </p:nvSpPr>
        <p:spPr>
          <a:xfrm>
            <a:off x="685800" y="2397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0" y="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380880" y="1888200"/>
            <a:ext cx="83822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лекс работ по снижению трудоемкости, стоимости и продолжительности технического обслуживания и ремонта изделия в общем случае включ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ие конструктивных решений, позволяющих снизить затраты на проведение подготовки к использованию по назначению, технического контроля, технического диагностирования и на транспортирование издел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ие конструктивных решений, позволяющих снизить затраты на обеспечение: доступа к составным частям; замены составных частей изделия такими же частями при сохранении установленного качества изделия в целом; установки и съема составных частей изделия; восстановления геометрических характеристик и качества поверхности детал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требований по унификации и стандартизации составных частей изделия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аничение числа сменяемых составных частей изделия, номенклатуры материалов, инструмента, вспомогательного оборудования и приспособл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ие конструктивных решений, облегчающих и упрощающих условия технического обслуживания и ремонта для ограничения требований к квалификации персонала, осуществляющего техническое обслуживание и ремо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85800" y="2397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0" y="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380880" y="1771920"/>
            <a:ext cx="8382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 работ по снижению материалоемкости изделия включа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ение рациональных сортаментов и марок материалов, рациональных способов получения заготовок, методов и режимов упрочнения дета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у и применение прогрессивных конструктивных решений, позволяющих повысить ресурс изделия и использовать малоотходные и безотходные технологические процес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у рациональной компоновки изделия, обеспечивающей сокращение расхода материала при монтаже вне предприятия-изготовите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дрение научно обоснованных запасов прочности металлоконструкций, типовых методов расчетов и испытаний изделия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1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2"/>
          <p:cNvSpPr/>
          <p:nvPr/>
        </p:nvSpPr>
        <p:spPr>
          <a:xfrm>
            <a:off x="1066680" y="144792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е требования к технологичности конструкции де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380880" y="2145960"/>
            <a:ext cx="81536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я детали должна состоять из стандартных и унифицированных конструктивных элементов  или быть стандартной в цел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и должны изготавливаться из стандартных и унифицированных заготовок, или заготовок, полученных рациональным способ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ы и поверхности детали должны иметь соответственно оптимальные степень точности и шероховат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о-химические и механические свойства материала, жесткость детали, ее форма и размеры должны соответствовать требованиям технологии изготовл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базовой поверхности детали должны обеспечивать точность установки, обработки и контроля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я детали должна обеспечивать возможность применения типовых и стандартных технологических процессов ее изгот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9907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е технологические требования к конструкции изделия и деталям, подвергаемые сбор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380880" y="1550880"/>
            <a:ext cx="81536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ичество составных частей в СЕ должно быть по возможности наименьшим. Необходимо, чтобы в их числе было как можно больше унифицированных и стандартных деталей, покупных С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Е должна быть базовая деталь, являющаяся основной для расположения остальных составных частей СЕ и имеющая поверхности, удобные для ее установки и закрепления в процессе сборки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борку и регулировку без промежуточной разработки и повторных сборок составных ча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чность и шероховатость сопрягаемых поверхностей должна соответствовать требуемой прочности неподвижных и износостойкости подвижных соедин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на быть сведена к минимуму потребность в специальных приспособлениях для осуществления соединений (сжатие тугих пружин, запрессовка, развальцовка и т.д.)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о процесса сборки деталей должно облегчаться с помощью направляющих элементов, заходных конусов и фасок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ессовых соединениях длина запрессовки должна быть минимальн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та под головки винтов, болтов и под гайки должны обеспечивать полное прилегание их торцов по всей поверхности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йки и винты должны иметь надежный способ стопорения (контргайки, шплинты, деформируемые шайбы, пружинные шайбы, проволоки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али должны быть удобны для отбора их из тары и установки по месту (т.е. должны иметь определенную массу, размер, форму, отсутствие острых кромок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али должны быть удобны для ориентирования в необходимое поло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аль должна быть симметрична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струкция мелких деталей (пружин, пружинных шайб, колпачков и т.п.) должна препятствовать сцеплению их при транспортировке в таре;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у технологичности конструкции изделия производя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 качественным и количественным показател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ая оценка технологичности конструкции изделия описывается словами «хорошо-плохо», «допустимо-недопустимо» и т.д., Качественная оценка характеризует технологичность конструкций обобщенно на основе опыта исполнителя. Качественная оценка при сравнении вариантов конструкции в процессе проектирования изделия предшествует количественной и определяет целесообразность количественной оце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енная оценка технологичности конструкции изделия выражается показателем, численное значение которого характеризует степень удовлетворения требований к технологичности констр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457200" y="237456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ассификацию таких показателей целесообразно проводить по следующим признака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бласти проявления: производственные, эксплуатационные, ремонт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истеме оценки: базовые, разрабатываемой конструкции, достигнутые при разработке изделия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тепени значимости: основные, дополнитель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количеству характеризуемых признаков: частные, комплекс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пособу выражения: абсолютные, относ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Заголовок 1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609480" y="2133720"/>
            <a:ext cx="3657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технологичности конструкции изделия определяется ка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достигнутого показателя технологичности к значени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ового показателя, заданного в техническом задании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981080" y="4800600"/>
            <a:ext cx="819360" cy="5047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4952880" y="1981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ный коэффициент имеет ви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4648320" y="4343400"/>
            <a:ext cx="396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еличина частного показател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ϕ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функция, нормирующая весовую значимость показателя;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бщее число относительных частных показателей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1152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609480" y="1295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сновным показателям производственной технологичности относ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04920" y="1755000"/>
            <a:ext cx="845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Трудоемкость изготовления изделия - суммарные затраты труда на выполнение технологических процессов изготовления изделия. Выражается суммой нормо-часов, затраченных на изготовление издели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6"/>
          <p:cNvSpPr/>
          <p:nvPr/>
        </p:nvSpPr>
        <p:spPr>
          <a:xfrm>
            <a:off x="457200" y="289548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Тиi – трудоемкость изготовления элемента, входящего в изделие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n – количество элементов издел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838080" cy="571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380880" y="3400560"/>
            <a:ext cx="815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Уровень технологичности по трудоемкости изготовления определяется как отношение достигнутой трудоемкости изделия к базовому показателю трудоемкости изготовления издел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457200" y="4650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Т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трудоемкость изготовления базового варианта (базовый показатель по трудоемкост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"/>
          <p:cNvPicPr/>
          <p:nvPr/>
        </p:nvPicPr>
        <p:blipFill>
          <a:blip r:embed="rId2"/>
          <a:stretch/>
        </p:blipFill>
        <p:spPr>
          <a:xfrm>
            <a:off x="4114800" y="4038480"/>
            <a:ext cx="895320" cy="638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2"/>
          <p:cNvSpPr/>
          <p:nvPr/>
        </p:nvSpPr>
        <p:spPr>
          <a:xfrm>
            <a:off x="428760" y="5181480"/>
            <a:ext cx="83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Технологическая себестоимость изделия - часть себестоимости изделия, определяемая суммой затрат на осуществление технологических процессов изготовления издел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"/>
          <p:cNvPicPr/>
          <p:nvPr/>
        </p:nvPicPr>
        <p:blipFill>
          <a:blip r:embed="rId3"/>
          <a:stretch/>
        </p:blipFill>
        <p:spPr>
          <a:xfrm>
            <a:off x="4114800" y="5638680"/>
            <a:ext cx="923760" cy="552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9"/>
          <p:cNvSpPr/>
          <p:nvPr/>
        </p:nvSpPr>
        <p:spPr>
          <a:xfrm>
            <a:off x="533520" y="6097680"/>
            <a:ext cx="83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Стi – технологическая себестоимость элементов, входящих в издел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n – количество элементов издел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Заголовок 1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09480" y="6858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сновным показателям производственной технологичности относ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304920" y="114480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Уровень технологичности конструкции по технологической себестоимости определяется как отношение достигнутой себестоимости  к базовому показателю технологической себестоим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380880" y="2135520"/>
            <a:ext cx="81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Материалоемкость изделия характеризуется расходом материала, необходимого на производство и эксплуатацию издел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114800" y="1628640"/>
            <a:ext cx="923760" cy="581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3657600" y="2666880"/>
            <a:ext cx="1724040" cy="324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457200" y="2901240"/>
            <a:ext cx="807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 Мс - масса изделия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п - масса технологических отходов и потерь. К технологическим отходам материала относят то его количество, которое не овеществлено в изделии, но затрачено на его производство, а к потерям материалов следует относить количество материала, безвозвратно теряемое в процессе изготовления издел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э - расход материала на эксплуатацию изделия (на запчаст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57200" y="4269600"/>
            <a:ext cx="800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Энергоемкость изделия характеризует количество топливно-энергетических ресурсов, необходимых на одно изделие с учетом его конструктивных особенностей на этапах производства, эксплуатации и ремо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3657600" y="4876920"/>
            <a:ext cx="2095560" cy="495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533520" y="5101200"/>
            <a:ext cx="800100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 сборочных единиц в издели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 деталей 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й сборочной единиц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затрат топлива и энергии на изготовлени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й детал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й сборочной единицы;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вторичных затрат топлива и энергии на изготовлени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й детал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й сборочной единицы, поступающих от других технологических процессов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ВТ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вторичных энергетических ресурсов используемых за пределами данного технологическ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1"/>
          <p:cNvSpPr/>
          <p:nvPr/>
        </p:nvSpPr>
        <p:spPr>
          <a:xfrm>
            <a:off x="685800" y="2397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ность конструкции из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152280" y="9255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дополнительным показателям технологичности конструкции электромеханических и механических изделий относ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0" y="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81004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4914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2T05:23:50Z</dcterms:created>
  <dc:creator>Николай Коваль</dc:creator>
  <dc:description/>
  <dc:language>en-US</dc:language>
  <cp:lastModifiedBy>Иванов</cp:lastModifiedBy>
  <dcterms:modified xsi:type="dcterms:W3CDTF">2022-11-08T08:15:50Z</dcterms:modified>
  <cp:revision>2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