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127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99.jpeg" ContentType="image/jpeg"/>
  <Override PartName="/ppt/media/image14.png" ContentType="image/png"/>
  <Override PartName="/ppt/media/image32.png" ContentType="image/png"/>
  <Override PartName="/ppt/media/image129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3.jpeg" ContentType="image/jpeg"/>
  <Override PartName="/ppt/media/image47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3.jpeg" ContentType="image/jpeg"/>
  <Override PartName="/ppt/media/image41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5.png" ContentType="image/png"/>
  <Override PartName="/ppt/media/image131.png" ContentType="image/png"/>
  <Override PartName="/ppt/media/image45.png" ContentType="image/png"/>
  <Override PartName="/ppt/media/image46.png" ContentType="image/png"/>
  <Override PartName="/ppt/media/image132.png" ContentType="image/png"/>
  <Override PartName="/ppt/media/image40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29.png" ContentType="image/png"/>
  <Override PartName="/ppt/media/image7.png" ContentType="image/png"/>
  <Override PartName="/ppt/media/image84.png" ContentType="image/png"/>
  <Override PartName="/ppt/media/image95.jpeg" ContentType="image/jpeg"/>
  <Override PartName="/ppt/media/image42.png" ContentType="image/png"/>
  <Override PartName="/ppt/media/image39.png" ContentType="image/png"/>
  <Override PartName="/ppt/media/image33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12.jpeg" ContentType="image/jpeg"/>
  <Override PartName="/ppt/media/image37.png" ContentType="image/png"/>
  <Override PartName="/ppt/media/image92.png" ContentType="image/png"/>
  <Override PartName="/ppt/media/image24.png" ContentType="image/png"/>
  <Override PartName="/ppt/media/image50.png" ContentType="image/png"/>
  <Override PartName="/ppt/media/image16.jpeg" ContentType="image/jpeg"/>
  <Override PartName="/ppt/media/image106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17.png" ContentType="image/png"/>
  <Override PartName="/ppt/media/image85.png" ContentType="image/png"/>
  <Override PartName="/ppt/media/image110.jpeg" ContentType="image/jpeg"/>
  <Override PartName="/ppt/media/image6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27.png" ContentType="image/png"/>
  <Override PartName="/ppt/media/image111.jpeg" ContentType="image/jpeg"/>
  <Override PartName="/ppt/media/image71.png" ContentType="image/png"/>
  <Override PartName="/ppt/media/image72.png" ContentType="image/png"/>
  <Override PartName="/ppt/media/image97.jpeg" ContentType="image/jpeg"/>
  <Override PartName="/ppt/media/image6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8.png" ContentType="image/png"/>
  <Override PartName="/ppt/media/image96.png" ContentType="image/png"/>
  <Override PartName="/ppt/media/image98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EA7-5542-4E83-B2FF-A1037E59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2AB-9243-4CE1-8032-1C114316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308-6D4C-48D6-A3B8-EAB46EF4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E5B-B971-447E-96C7-02750D94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06B-AC30-4E3E-A556-A210E0C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D22-DB62-421E-84B6-2D4EEB4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153-980E-48C0-8621-4FE57CF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12C-E2B4-4600-89A5-1BC632C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4E2-9F84-40DA-9BFA-953A6BD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EF8-7129-40BA-A0BA-F91DD9C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150-452E-4F38-BF4F-81472F7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CF3-4B60-4486-B1DA-BE40EB0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7AC-17EA-4EAA-9E7D-4EAD3D0E9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18.png"/><Relationship Id="rId8" Type="http://schemas.openxmlformats.org/officeDocument/2006/relationships/image" Target="../media/image120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4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и конструирование механизмов приборов. Механически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9480" y="1828800"/>
            <a:ext cx="800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ханической передаче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ют устройство для передачи механического движения от источника (электродвигатель) к исполнительным органам изделия. Может осуществляться с изменением значения и направления скорости движения, с преобразованием вида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личают пере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6" descr=""/>
          <p:cNvPicPr/>
          <p:nvPr/>
        </p:nvPicPr>
        <p:blipFill>
          <a:blip r:embed="rId1"/>
          <a:stretch/>
        </p:blipFill>
        <p:spPr>
          <a:xfrm>
            <a:off x="682560" y="3633840"/>
            <a:ext cx="77850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плавности работы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267080" y="259092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ы плавности работы относятся к параметрам колес, которые также влияют на кинематическую точность, но проявляются многократно за оборот колеса. Показателем плавности работы колеса является местная кинематическая погреш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2401" t="11338" r="69417" b="20692"/>
          <a:stretch/>
        </p:blipFill>
        <p:spPr>
          <a:xfrm>
            <a:off x="685800" y="243828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контакта зубьев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267080" y="259092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ы контакта зубьев определяют поверхность касания зубьев сопрягаемых колес в процессе работы по длине и высоте зуба в процентах, hp - высота активной боковой поверхности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514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контакта зубьев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57200" y="4114800"/>
            <a:ext cx="83059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мелкомодульных передач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&lt; 1 мм) с нерегулируемым межосевым расстоянием установлено пять видов сопряжений, определяющих величину гарантированного (наименьшего)  бокового зазора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G, F, Е и D. На рис. показаны гарантированные боковые зазо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расположение полей допусков боковых зазоров Tjn. Каждому виду сопряж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G, F соответствует один вид допуска на боковой зазор, обозначаемый соответственн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g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ля видов сопряжений Е, D устанавливается один вид допуска на боковой зазор 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чность изготовления зубчатых колес и передач задается на чертеже степенью точности, а требования к боковому зазору - видом сопряжения по нормам бокового зазора. Пример условного обозначения точности передачи с нерегулируемым расположением осей со степенью точности 7 по всем трем нормам с видом сопряжения колес G и неизменным соответствием между видами сопряжения и допуска на боковой зазор: 7-G ГОСТ 9178—72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50591" t="0" r="0" b="11111"/>
          <a:stretch/>
        </p:blipFill>
        <p:spPr>
          <a:xfrm>
            <a:off x="1981080" y="1523880"/>
            <a:ext cx="51818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ации по выбору степени точности и вида сопряжения зубчатых мех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4054" r="0" b="29050"/>
          <a:stretch/>
        </p:blipFill>
        <p:spPr>
          <a:xfrm>
            <a:off x="2133720" y="1523880"/>
            <a:ext cx="4755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чатые передачи.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80880" y="1600200"/>
            <a:ext cx="3429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териала производится с учетом обеспечения необходимой износостойкости поверхностных слоев зубьев (против выкрашивания, абразивного износа и заедания) и прочности их на изгиб (излом). Наиболее часто колеса изготавливаются из качественных конструкционных сталей марок 35, 40, 45, 50 и 50Г и легированных сталей 40Х, 45ХН. При средних нагрузках для уменьшения влияния термообработки на прочность колес зубья нарезаются после улучшения или нормализации заготовок (твердость НВ ≥ 320-350). При больших нагрузках для повышения нагрузочной способности зубчатых колес их зубья подвергают объемной или поверхностной закалке (твердость НВ &gt; 350) и последующей чистовой обработке - шлифованию или притирке. Для повышения стойкости зубьев против заедания рекомендуется применять разные материалы для колеса и шестерни. Так как последняя делает больше оборотов, то ее зубья должны быть твер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477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цилиндрических зубчатых ко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0" t="0" r="0" b="5820"/>
          <a:stretch/>
        </p:blipFill>
        <p:spPr>
          <a:xfrm>
            <a:off x="304920" y="1371600"/>
            <a:ext cx="3875040" cy="3886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457200" y="56386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ы колес рекомендуется брать в соответствии с указаниями ГОСТ 13733-68 и справочной литератур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rcRect l="0" t="0" r="0" b="11110"/>
          <a:stretch/>
        </p:blipFill>
        <p:spPr>
          <a:xfrm>
            <a:off x="4114800" y="3809880"/>
            <a:ext cx="469584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4419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ы зубчатой цилиндрической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Цилиндрические зубчатые передачи - презентация онлайн"/>
          <p:cNvPicPr/>
          <p:nvPr/>
        </p:nvPicPr>
        <p:blipFill>
          <a:blip r:embed="rId1"/>
          <a:srcRect l="11073" t="0" r="4873" b="0"/>
          <a:stretch/>
        </p:blipFill>
        <p:spPr>
          <a:xfrm>
            <a:off x="533520" y="1752480"/>
            <a:ext cx="4662360" cy="4154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414400" y="3124080"/>
            <a:ext cx="315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ентировочные размеры кол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591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3981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762120" y="137160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 с эвольвентным внешним зацеплением регламентируется ГОСТ 16532-7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09480" y="137160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я из прочности зубьев при изгибе можно вычислить модуль. Полученное значение необходимо округлить в большую сторону и принять значе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ГОСТ 9563-6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0" r="51710" b="0"/>
          <a:stretch/>
        </p:blipFill>
        <p:spPr>
          <a:xfrm>
            <a:off x="3276720" y="2057400"/>
            <a:ext cx="1752480" cy="466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609480" y="2514600"/>
            <a:ext cx="7543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   М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крутящий момент на колес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Ка – вспомогательный коэффициент, зависящий от вида передачи. Ка = 2 для прямозубой передачи, Ка = 1,5 – для косозубой передач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Кк - коэффициент концентрации нагрузк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Кд - коэффициент динамичности нагрузк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коэффициент формы зуба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коэффициент, определяющий отношение ширины зубчатого венца к модулю. Для приборных механизмов принимают ψ 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5-12 для прямозубых колес и ψ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5-25 для косозубы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[σ]и – допустимое напряжение на изгиб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609480" y="4724280"/>
            <a:ext cx="784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концентрации нагрузки определяется отношением наибольшей удельной нагрузки к ее средней величине Кк = qmax/q и имеет значения в пределах Кк = 1-1,3. Принимают Кк = 1 при расположении колес посередине между подшипниками, при коротких и жестких валах и при колесах, изготовленных из пластмасс, бронзы или стали, если твердость поверхности зубьев НВ&lt;350, так как  упругая податливость и быстрая приработка зубьев уменьшают неравномерность распределения нагрузки по длине зуба.  Кк тем больше, чем меньше жесткость валов, тверже материал зубьев (НВ&gt; 350), ниже степень точности колес и передачи и несимметричнее  расположение колес относительно подшип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609480" y="1371600"/>
            <a:ext cx="7772400" cy="28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динамичности нагрузки определяется отношением полной нагрузки к нормальной силе Кд =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+Nд)/N. Величина динамической нагруз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 тем больше, чем ниже степень точности колес, выше окружная скорость зубьев и больше массы звеньев, связанных с валами передачи. Ориентировочные значения Кд: для прямозубых стальных колес 6-й степени  точности при v = 4-12 м/с Кд = 1,2-1,3; для колес 7-й степени точности при v = 1-3 м/с Кд = 1,25, при v = 3-12 м/с Кд = 1,3-1,5; для колес 8-й степени точности при v &lt; 1 м/с Кд = 1,2-1,4. Для косозубых передач значения Кд принимают на 15-20% меньше, чем для прямозуб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формы зуба определяют в зависимости от числа зубьев колеса. Значения коэффициента для колес нарезанных реечным инструментом при α = 2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1, с = 0,25 представлены в таблиц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0" t="33150" r="0" b="32043"/>
          <a:stretch/>
        </p:blipFill>
        <p:spPr>
          <a:xfrm>
            <a:off x="1905120" y="4114800"/>
            <a:ext cx="5190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рная 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304920" y="36576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четырехзвенной простейшей передачи, состоящей из центрального вращающегося колеса 1 с неподвижной геометрической осью; сателлитов 2, оси которых перемещаются в пространстве; неподвижного колеса 3 с внутренними зубьями; вращающегося водила Н, на котором установлены сателлиты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Схема планетарной передачи"/>
          <p:cNvPicPr/>
          <p:nvPr/>
        </p:nvPicPr>
        <p:blipFill>
          <a:blip r:embed="rId1"/>
          <a:stretch/>
        </p:blipFill>
        <p:spPr>
          <a:xfrm>
            <a:off x="685800" y="1600200"/>
            <a:ext cx="3276720" cy="1708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Устройство планетарного механизма – Планетарная передача принцип действия и  кинематика красивого механизма"/>
          <p:cNvPicPr/>
          <p:nvPr/>
        </p:nvPicPr>
        <p:blipFill>
          <a:blip r:embed="rId2"/>
          <a:stretch/>
        </p:blipFill>
        <p:spPr>
          <a:xfrm>
            <a:off x="4572000" y="2057400"/>
            <a:ext cx="3863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609480" y="1371600"/>
            <a:ext cx="77724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тимые напряжения находят по таблице. При постоянном направлении нагрузки на зубья колес [σ]и = [σ]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при переменном - [σ]и = [σ]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342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09480" y="1371600"/>
            <a:ext cx="7772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ются углом наклона зубьев. Для прямозубых колес β = 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для косозубых β = 8-15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ют значение торцевого моду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ют диаметры делительных окружностей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ют межосевое расстоя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+ для внешнего зацепления, - для внутрен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голов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нож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343160" cy="25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1924200" cy="22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1514520" cy="2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000080" cy="285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3505320" y="4952880"/>
            <a:ext cx="1562040" cy="25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3657600" y="5486400"/>
            <a:ext cx="120960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4"/>
          <p:cNvSpPr/>
          <p:nvPr/>
        </p:nvSpPr>
        <p:spPr>
          <a:xfrm>
            <a:off x="685800" y="59436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головки зуб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1. Коэффициент ножки зуба с = 0,5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0,5 мм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= 0,35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олее 0,5 мм, с = 0,25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олее 1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09480" y="1371600"/>
            <a:ext cx="7772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ина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окружностей впа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окружностей верш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ваясь отношением 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0,05-0,5 определяют ширину зубчатого венц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 производят проверочный расчет на контактную прочность. Его целью является проверка превышения расчетных контактных напряжения σк в материале зубьев допускаемой величины [σ]к. Проверочный расчет производя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ля прямозуб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ля косозуб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Еп — приведенный модуль упругости  материалов, МПа; Значения Е1, Е2 из справочных данных матери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219320" cy="238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114560" cy="24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3809880" y="3048120"/>
            <a:ext cx="1181160" cy="257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4"/>
          <a:srcRect l="0" t="0" r="25958" b="0"/>
          <a:stretch/>
        </p:blipFill>
        <p:spPr>
          <a:xfrm>
            <a:off x="2743200" y="4572000"/>
            <a:ext cx="312408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5"/>
          <a:srcRect l="0" t="0" r="27785" b="0"/>
          <a:stretch/>
        </p:blipFill>
        <p:spPr>
          <a:xfrm>
            <a:off x="2819520" y="5181480"/>
            <a:ext cx="297180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6"/>
          <a:stretch/>
        </p:blipFill>
        <p:spPr>
          <a:xfrm>
            <a:off x="3429000" y="6400800"/>
            <a:ext cx="1638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цилиндр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09480" y="1371600"/>
            <a:ext cx="777240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ю расчета на изгиб зубьев является предотвращение излома зубьев. Расчетные напряжения изгиба в зубьях σи не должны превышать допускаемых [σ]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[σ]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ибольшие напряжения изгиба возникают у основания зуба, когда нормальная сила N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ложена к вершине зуба и создает наибольший изгибающий момент. Перенесем точку приложения N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ось симметрии зуба и разложим на составляющие: N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cosγ - изгибающую зуб и N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sinγ - сжимающую зуб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0" t="0" r="0" b="3891"/>
          <a:stretch/>
        </p:blipFill>
        <p:spPr>
          <a:xfrm>
            <a:off x="533520" y="3048120"/>
            <a:ext cx="4124160" cy="2819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4648320" y="3276720"/>
            <a:ext cx="3733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для определения расчетных напряжений изгиба в опасном сечении зуба (МПа) имеет ви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ля прямозуб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ля косозуб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2324160" cy="419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4876920" y="5334120"/>
            <a:ext cx="29811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сил, действующих в цилиндрических зубчатых передач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09480" y="1523880"/>
            <a:ext cx="777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не  учитывать силы трения, то действующие на зубья прямозубой передачи си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но разложить на  составляющие: окруж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радиаль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илы. В косозубой передаче действует дополнительно осевая си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Их значения рав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572000" cy="64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296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конических зубчатых ко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5715000" y="59436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ямозубые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косозубы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кругов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0" t="0" r="0" b="6725"/>
          <a:stretch/>
        </p:blipFill>
        <p:spPr>
          <a:xfrm>
            <a:off x="457200" y="1600200"/>
            <a:ext cx="2492280" cy="18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0" b="38386"/>
          <a:stretch/>
        </p:blipFill>
        <p:spPr>
          <a:xfrm>
            <a:off x="3048120" y="1600200"/>
            <a:ext cx="2611440" cy="197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0" t="0" r="0" b="31954"/>
          <a:stretch/>
        </p:blipFill>
        <p:spPr>
          <a:xfrm>
            <a:off x="5486400" y="1371600"/>
            <a:ext cx="1523880" cy="256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613320" cy="16002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0"/>
          <p:cNvSpPr/>
          <p:nvPr/>
        </p:nvSpPr>
        <p:spPr>
          <a:xfrm>
            <a:off x="3124080" y="3581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бинированные ц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6858000" y="1752480"/>
            <a:ext cx="1905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люфтовыбирателем: 1 – пружина; 2 – левая половина колеса; 3 – правая половина колеса; 4 – прижимная шай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5"/>
          <a:srcRect l="20019" t="29345" r="56335" b="7769"/>
          <a:stretch/>
        </p:blipFill>
        <p:spPr>
          <a:xfrm>
            <a:off x="914400" y="37339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6"/>
          <a:srcRect l="65509" t="16771" r="19943" b="7769"/>
          <a:stretch/>
        </p:blipFill>
        <p:spPr>
          <a:xfrm>
            <a:off x="3733920" y="4038480"/>
            <a:ext cx="990360" cy="22291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4"/>
          <p:cNvSpPr/>
          <p:nvPr/>
        </p:nvSpPr>
        <p:spPr>
          <a:xfrm>
            <a:off x="1294920" y="57150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2819520" y="6248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бинированные сб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ы зубчатой конической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905120" y="1274760"/>
            <a:ext cx="55720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кон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437360" cy="39402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914400" y="160020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конических зубчатых передач с прямым зубом регламентируется ГОСТ 19624- 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кон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0" y="1371600"/>
            <a:ext cx="899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яют длину образующей делительных конусов L, модуль в среднем сечении зубье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 конических коле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615960" y="228600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ину зуба принимают равн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648320" cy="52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1076400" cy="2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rcRect l="0" t="0" r="42720" b="15821"/>
          <a:stretch/>
        </p:blipFill>
        <p:spPr>
          <a:xfrm>
            <a:off x="3200400" y="3124080"/>
            <a:ext cx="220968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3505320" y="3733920"/>
            <a:ext cx="1676160" cy="190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5"/>
          <a:stretch/>
        </p:blipFill>
        <p:spPr>
          <a:xfrm>
            <a:off x="2819520" y="4495680"/>
            <a:ext cx="1247760" cy="31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4419720" y="4495680"/>
            <a:ext cx="1981080" cy="285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7"/>
          <a:stretch/>
        </p:blipFill>
        <p:spPr>
          <a:xfrm>
            <a:off x="3581280" y="5181480"/>
            <a:ext cx="1667160" cy="22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8"/>
          <a:stretch/>
        </p:blipFill>
        <p:spPr>
          <a:xfrm>
            <a:off x="3886200" y="5686560"/>
            <a:ext cx="847800" cy="257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9"/>
          <a:stretch/>
        </p:blipFill>
        <p:spPr>
          <a:xfrm>
            <a:off x="3657600" y="6095880"/>
            <a:ext cx="1390680" cy="352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39240" y="2819880"/>
            <a:ext cx="90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пределения величины коэффициента формы зуба определяют число зубьев эквивалентного кол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85800" y="342612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тем определяют модуль на делительной окружности колеса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-838080" y="3995640"/>
            <a:ext cx="1003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ное значение нужно округлить в ближайшую сторону до стандартного значения по ГОСТ 9563-6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ы делительных конусов рассчитывают по формул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567240" y="20851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-378000" y="4802400"/>
            <a:ext cx="476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делительных окружностей коле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-381960" y="5442120"/>
            <a:ext cx="40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голов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-304560" y="5945400"/>
            <a:ext cx="386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нож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0" y="633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головки зуб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1. Коэффициент ножки зуба с = 0,45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0,5 мм; с = 0,3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выше 0,5 до 1 мм; с = 0,2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кон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3567240" y="20851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49560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3390840" cy="31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429000" y="3048120"/>
            <a:ext cx="120960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4"/>
          <a:stretch/>
        </p:blipFill>
        <p:spPr>
          <a:xfrm>
            <a:off x="3429000" y="3657600"/>
            <a:ext cx="1143000" cy="42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233388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6"/>
          <a:stretch/>
        </p:blipFill>
        <p:spPr>
          <a:xfrm>
            <a:off x="2666880" y="5029200"/>
            <a:ext cx="237168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7200" y="1479600"/>
            <a:ext cx="30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окружностей выступ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840" y="2135520"/>
            <a:ext cx="282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окружностей впа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0" y="2819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 голов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-6840" y="342936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 ножки зуб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080" y="4038840"/>
            <a:ext cx="22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 наклона выступ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-1800" y="464868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 конуса впа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-1800" y="5594400"/>
            <a:ext cx="55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ы делительных окружностей в среднем сечении зубье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7"/>
          <a:stretch/>
        </p:blipFill>
        <p:spPr>
          <a:xfrm>
            <a:off x="2666880" y="5943600"/>
            <a:ext cx="23338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характеристики механических передач, передающих вращательн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002600" y="4572000"/>
            <a:ext cx="273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двигат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 ременная пере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 редук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– муф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695840" cy="2581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410080" y="21337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метры шкив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исло зубьев зубчатых кол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 – мощность двигателя, В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 – частота вращения двигателя об/м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 – крутящий момент на валу двигателя, Н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4038480" y="48006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убчатые колеса с числом зубье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ведущими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– ведомыми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принято называть шестернями, вторые колесами. Шкив диамет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дущий,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 ведо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конических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0" r="14287" b="0"/>
          <a:stretch/>
        </p:blipFill>
        <p:spPr>
          <a:xfrm>
            <a:off x="2362320" y="1981080"/>
            <a:ext cx="3886200" cy="46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rcRect l="0" t="0" r="14344" b="0"/>
          <a:stretch/>
        </p:blipFill>
        <p:spPr>
          <a:xfrm>
            <a:off x="990720" y="3886200"/>
            <a:ext cx="3809880" cy="409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" descr=""/>
          <p:cNvPicPr/>
          <p:nvPr/>
        </p:nvPicPr>
        <p:blipFill>
          <a:blip r:embed="rId3"/>
          <a:stretch/>
        </p:blipFill>
        <p:spPr>
          <a:xfrm>
            <a:off x="5791320" y="3048120"/>
            <a:ext cx="2914560" cy="306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-2520" y="1479600"/>
            <a:ext cx="499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на контактную прочность выполняю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2551320"/>
            <a:ext cx="7010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я [σ]к, Кк, Кд определяются так же, как для цилиндрических колес. Коэффициент  ψ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= 4-8 принимают тем больше, чем меньше нагрузка на зуб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зубьев производя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52280" y="4423320"/>
            <a:ext cx="510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е на зубья конической передачи си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но разложить на  составляющие: окруж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радиаль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севую сил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х значения рав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328000" y="6324840"/>
            <a:ext cx="33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 конической прямозубой переда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0" y="5638680"/>
            <a:ext cx="51624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ции червячных ко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144792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бинированные ц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6629400" y="3200400"/>
            <a:ext cx="2133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люфтовыбирателем: 1 - меньшая часть  колес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– ступиц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– штыр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- спиральная пруж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4"/>
          <p:cNvSpPr/>
          <p:nvPr/>
        </p:nvSpPr>
        <p:spPr>
          <a:xfrm>
            <a:off x="2286000" y="39625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rcRect l="0" t="0" r="0" b="32144"/>
          <a:stretch/>
        </p:blipFill>
        <p:spPr>
          <a:xfrm>
            <a:off x="1371600" y="1600200"/>
            <a:ext cx="2971800" cy="221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rcRect l="76960" t="0" r="0" b="0"/>
          <a:stretch/>
        </p:blipFill>
        <p:spPr>
          <a:xfrm>
            <a:off x="5105520" y="2514600"/>
            <a:ext cx="1404720" cy="2741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3"/>
          <a:srcRect l="3581" t="0" r="26621" b="56234"/>
          <a:stretch/>
        </p:blipFill>
        <p:spPr>
          <a:xfrm>
            <a:off x="457200" y="4572000"/>
            <a:ext cx="432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ы червячной цилиндрической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805040" y="1633680"/>
            <a:ext cx="5533920" cy="3590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3365280" y="5562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червяк; 2 – колес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вячные цилиндрические передачи.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685800" y="1523880"/>
            <a:ext cx="35812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вяки обычно выполняются за одно целое с валом. Материалом для них служат стали. Червяки из стали 40, 45, 40 X и 40ХН - закаливают до твердости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45-60. Червяки из стали 15, 20, 15Х, 10Х, 20ХФ1 цементируют и закаливают до твердости HRC -56—62. Не закаленные червяки с твердостью поверхности НВ &lt; 270  применяются в ручных или тихоходных маломощных передачах. Червячные колеса чаще делают составными: венец из бронзы, а колесо из стали или чугуна. Венёц насаживается на колесо с горячей или прессовой посадкой и закрепляется  стопорными винтами и штифтами. При малой толщине и большом диаметре диска применяется фланцевое крепление. Цельные колеса из чугуна СЧ 15-32 и СЧ 21-40  применяются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10000" cy="3286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762120" y="557064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ах при скорости скольжения v &lt; 2 м/с. Лучшим антифрикционным материалом для зубьев колеса являются бронзы БрОФЮ-1, БрОНФ. Они применяются для ответственных передач при v &gt; 3 м/с. Безоловянистые бронзы БрАЖ9-4 и БрАЖН 10-4-4 хуже сопротивляются заеданию и применяются при v &gt; 6 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червячных цилиндрически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914400" y="160020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червячных цилиндрических передач регламентируется ГОСТ 19650—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781200" cy="257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495440" cy="505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3962520" y="5638680"/>
            <a:ext cx="113328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" descr=""/>
          <p:cNvPicPr/>
          <p:nvPr/>
        </p:nvPicPr>
        <p:blipFill>
          <a:blip r:embed="rId4"/>
          <a:stretch/>
        </p:blipFill>
        <p:spPr>
          <a:xfrm>
            <a:off x="3962520" y="6248520"/>
            <a:ext cx="1000080" cy="466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52280" y="20592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начально принимают стандартный модуль по ГОСТ 9563-60 и задаются числом заходов червя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Далее определяют число зубьев колеса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52280" y="300528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риентировочного определения модуля с учетом изгибающей нагрузки можно воспользоваться формул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4229280"/>
            <a:ext cx="914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 диаметра червяка, определяется согласно ГОСТ 19672-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к - коэффициент концентрации нагрузк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д - коэффициент динамичности нагруз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]и – допустимое напряжение на изгиб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е коэффициента формы зуба определяется по эквивалентному числу зубьев кол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-2160" y="5943960"/>
            <a:ext cx="33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ол подъема винтовой  линии раве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червячных цилиндрически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76440" cy="1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752400" cy="247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3"/>
          <a:stretch/>
        </p:blipFill>
        <p:spPr>
          <a:xfrm>
            <a:off x="1143000" y="5181480"/>
            <a:ext cx="2314440" cy="257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228600" y="1943280"/>
            <a:ext cx="8686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онзовые зубья колеса в процессе эксплуатации прирабатываются к виткам червяка и концентрация нагрузки значительно уменьшается, поэтому в расчетах принимают Кк =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вячная передача работает плавно и бесшумно, поэтому значения Кд принимают меньше, чем для зубчатой передачи. Пр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&lt;3 м/с Кд = 1-1,1; при v2 &gt; 3 м/с Кд = 1,1-1,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04920" y="45745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делительное межосевое расстоя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28600" y="556776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ная величина должна соответствовать стандартному ряду. 1-й  ряд: 40; 50; 63; 80; 100; 125; 160; 200; 250; 315; 400; 500 мм; 2-й ряд: 45; 56; 71; 90; 112; 140; 180; 224; 280; 355; 450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4"/>
          <a:srcRect l="0" t="1205" r="0" b="0"/>
          <a:stretch/>
        </p:blipFill>
        <p:spPr>
          <a:xfrm>
            <a:off x="4038480" y="3429000"/>
            <a:ext cx="4724640" cy="3124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1"/>
          <p:cNvSpPr/>
          <p:nvPr/>
        </p:nvSpPr>
        <p:spPr>
          <a:xfrm>
            <a:off x="228600" y="3124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ное значение округляется в большую сторону и принимается по ГОСТ 19672-74. Определяют делительный диаметр червяка и кол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червячных цилиндрически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324080" cy="2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3581280" y="2514600"/>
            <a:ext cx="1924200" cy="247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3124080" y="3352680"/>
            <a:ext cx="281952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tretch/>
        </p:blipFill>
        <p:spPr>
          <a:xfrm>
            <a:off x="3200400" y="4343400"/>
            <a:ext cx="2781360" cy="247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5"/>
          <a:stretch/>
        </p:blipFill>
        <p:spPr>
          <a:xfrm>
            <a:off x="4038480" y="5257800"/>
            <a:ext cx="1028880" cy="380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6"/>
          <a:stretch/>
        </p:blipFill>
        <p:spPr>
          <a:xfrm>
            <a:off x="3962520" y="6248520"/>
            <a:ext cx="1323720" cy="304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915840" y="1327320"/>
            <a:ext cx="50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головки витка червяка (зуба колес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6840" y="2089440"/>
            <a:ext cx="581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а делительной ножки витка червяка (зуба колес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14400" y="2927520"/>
            <a:ext cx="52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 вершин витков червяка (зубьев колес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11880" y="3841920"/>
            <a:ext cx="395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 впадин червяка (колес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13680" y="4832640"/>
            <a:ext cx="579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ина венца червячного колеса (по впадинам зубьев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11880" y="5747040"/>
            <a:ext cx="39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а нарезанной части червя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червячных цилиндрически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057400" cy="39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4038480" y="2590920"/>
            <a:ext cx="1457280" cy="428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rcRect l="17489" t="57160" r="18398" b="0"/>
          <a:stretch/>
        </p:blipFill>
        <p:spPr>
          <a:xfrm>
            <a:off x="2971800" y="3429000"/>
            <a:ext cx="335268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4"/>
          <a:srcRect l="0" t="0" r="26128" b="0"/>
          <a:stretch/>
        </p:blipFill>
        <p:spPr>
          <a:xfrm>
            <a:off x="3276720" y="5334120"/>
            <a:ext cx="3124080" cy="228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"/>
          <p:cNvPicPr/>
          <p:nvPr/>
        </p:nvPicPr>
        <p:blipFill>
          <a:blip r:embed="rId5"/>
          <a:srcRect l="0" t="0" r="43009" b="0"/>
          <a:stretch/>
        </p:blipFill>
        <p:spPr>
          <a:xfrm>
            <a:off x="3505320" y="6095880"/>
            <a:ext cx="2133360" cy="38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-10080" y="1479600"/>
            <a:ext cx="859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счете зубьев колеса на прочность расчетная удельная нагрузка определяется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23920" y="228636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р – удельная нагру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304848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тального червяка  и бронзовых зубьев колеса можно воспользоваться формул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28600" y="4119840"/>
            <a:ext cx="853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ак между зубьями колеса и витками червяка происходит скольжение со значительными потерями энергии на трение и нагрев, то для предупреждения износа и заедания допускаемые напряжения определяются на основе экспериментальных данных и опыта эксплуатации передач. При назначении [о]к учитывается скорость скольжения vs (м/с), так как нагрузочная способность передачи ограничивается опасностью заедания, а не числом циклов нагру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5640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а для проверочного расчета зубьев червячного колеса на изгиб имеет ви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сил, действующих в цилиндрических червячных передач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609480" y="1828800"/>
            <a:ext cx="777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е на зубья червячной передачи си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но разложить на  составляющие: окруж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радиальную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севую сил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х значения равны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420048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9909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Передача винт-г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3886200" y="2133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товая передача позволяет преобразовать вращательное движение винта (гайки) в поступательное перемещение гайки (винта). На практике возможны следующие сочетания: винт вращается – гайка движется поступательно; гайка вращается – винт движется поступательно; винт закреплен неподвижно – гайка вращаясь, движется поступательно; гайка закреплена неподвижно – винт, вращаясь, движется поступа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rcRect l="0" t="0" r="67686" b="0"/>
          <a:stretch/>
        </p:blipFill>
        <p:spPr>
          <a:xfrm>
            <a:off x="533520" y="1523880"/>
            <a:ext cx="2819160" cy="175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2"/>
          <a:srcRect l="37564" t="0" r="36232" b="0"/>
          <a:stretch/>
        </p:blipFill>
        <p:spPr>
          <a:xfrm>
            <a:off x="914400" y="30481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rcRect l="64647" t="0" r="0" b="0"/>
          <a:stretch/>
        </p:blipFill>
        <p:spPr>
          <a:xfrm>
            <a:off x="380880" y="4572000"/>
            <a:ext cx="3084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характеристики механических передач, передающих вращательное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85800" y="22096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точное отношение передач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быть найдено, в зависимости от вида передачи из со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Zi+1/Zi = n1/n2 = Di </a:t>
            </a:r>
            <a:r>
              <a:rPr b="0" lang="hy-AM" sz="1800" spc="-1" strike="noStrike">
                <a:solidFill>
                  <a:srgbClr val="000000"/>
                </a:solidFill>
                <a:latin typeface="Arial"/>
              </a:rPr>
              <a:t>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Di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ступенчатые передачи имеют следующие значения </a:t>
            </a:r>
            <a:r>
              <a:rPr b="0" lang="hy-AM" sz="1800" spc="-1" strike="noStrike">
                <a:solidFill>
                  <a:srgbClr val="000000"/>
                </a:solidFill>
                <a:latin typeface="Arial"/>
              </a:rPr>
              <a:t>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икционные – 0,85…0,9; ременные – 0,90…0,95; зубчаты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95…0,99; червячные – 0,7…0,9; цепные – 0,92…0,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рутящий момент может быть найдет из соотно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 = 9555 Ni / ni, 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1333440" cy="390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rcRect l="30220" t="0" r="33149" b="33333"/>
          <a:stretch/>
        </p:blipFill>
        <p:spPr>
          <a:xfrm>
            <a:off x="3581280" y="3581280"/>
            <a:ext cx="1905120" cy="419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152280" y="1635480"/>
            <a:ext cx="883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нты рассчитывается из условия прочности на растяжение (или сжатие) с учетом кручения. Последнее учитывается коэффициентом К = 1,25 для трапецеидальной резьбы и К = 1,35 для метрической резьбы. Коэффициент К равен отношению суммарного напряжения растяжения и кручения к напряжению растяжения. Напряжение в материале винта (МП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249120" y="3050280"/>
            <a:ext cx="866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тки резьбы рассчитываются из условия ограничения удельного давления между винтом и гайкой (МП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0320" y="4040280"/>
            <a:ext cx="581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Н =6 – расчетное число витков гай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] – допустимое удельное давление между витками винта и гай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Передача винт-г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04920" y="4731480"/>
            <a:ext cx="853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ери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йки изготавливают из бронзы БрАЖ9-4, БрОФЮ-1 или БрОЦС6-6-3, а винты из стали 40, 45, 50, 40Х или У10А. При этом ориентировочные значения [р] для винтов и гаек 3-го и 4-го классов точности принимают: для стали, и бронзы 7—9 МПа, для закаленной стали и бронзы 10—12 МПа. Для винтов 0, 1 и 2-го классов точности [р] уменьшают в 2—3 ра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ико - винтовая передача (ШВ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886200" cy="27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Шарико-винтовая передача (ШВП) для ЧПУ станков - YouTube"/>
          <p:cNvPicPr/>
          <p:nvPr/>
        </p:nvPicPr>
        <p:blipFill>
          <a:blip r:embed="rId2"/>
          <a:srcRect l="19754" t="28535" r="6174" b="27575"/>
          <a:stretch/>
        </p:blipFill>
        <p:spPr>
          <a:xfrm>
            <a:off x="457200" y="487692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15"/>
          <p:cNvSpPr/>
          <p:nvPr/>
        </p:nvSpPr>
        <p:spPr>
          <a:xfrm>
            <a:off x="5410080" y="251460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ях, когда требуется преобразовать вращательное движение в поступательное с высоким к. п. д. (</a:t>
            </a:r>
            <a:r>
              <a:rPr b="0" lang="hy-AM" sz="1800" spc="-1" strike="noStrike">
                <a:solidFill>
                  <a:srgbClr val="000000"/>
                </a:solidFill>
                <a:latin typeface="Arial"/>
              </a:rPr>
              <a:t>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90-0,98), а также для преобразования поступательного движения во вращательное применяются шарико-винтовые передачи (ШВП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ико - винтовая передача (ШВ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5"/>
          <p:cNvSpPr/>
          <p:nvPr/>
        </p:nvSpPr>
        <p:spPr>
          <a:xfrm>
            <a:off x="457200" y="4952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т и гайка имеют каналы (углубления), расположенные по винтовой линии. Начало и конец канала гайки соединены обводным каналом так, чтобы непрерывный ряд шариков при вращении винта или гайки перемещался по каналу. Трение скольжения заменено трением к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562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ечно-зубчатые мех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5"/>
          <p:cNvSpPr/>
          <p:nvPr/>
        </p:nvSpPr>
        <p:spPr>
          <a:xfrm>
            <a:off x="5410080" y="205740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еобразования вращательного движения в прямолинейное поступательное и наоборот, а также для изменения направления и скорости поступательного движения звеньев используются реечно-зубчатые механизмы, состоящие из стойки, зубчатых реек и зубчатых ко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Проектирование зубчато – реечной передачи | 5ти томное издание «Методы  Проектирования», автор Игнатьев Н.П."/>
          <p:cNvPicPr/>
          <p:nvPr/>
        </p:nvPicPr>
        <p:blipFill>
          <a:blip r:embed="rId1"/>
          <a:stretch/>
        </p:blipFill>
        <p:spPr>
          <a:xfrm>
            <a:off x="1447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товые и реечно-зубчатые переда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ечно-зубчатые мех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454640" cy="990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3136680" y="2819880"/>
            <a:ext cx="31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ические;                  червяч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80880" y="321552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матические зависимости между перемещением рей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углом поворота колеса φ1 в радианах для реечно-цилиндрических передач имею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φ1 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орцевой шаг коле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 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одуль передач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гол наклона зубьев на делительном цилинд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detalmach.ru/lect9.files/image005.jpg"/>
          <p:cNvPicPr/>
          <p:nvPr/>
        </p:nvPicPr>
        <p:blipFill>
          <a:blip r:embed="rId1"/>
          <a:srcRect l="0" t="0" r="0" b="5444"/>
          <a:stretch/>
        </p:blipFill>
        <p:spPr>
          <a:xfrm>
            <a:off x="762120" y="1600200"/>
            <a:ext cx="769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7"/>
          <p:cNvSpPr/>
          <p:nvPr/>
        </p:nvSpPr>
        <p:spPr>
          <a:xfrm>
            <a:off x="380880" y="144792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фрикционных передачах движение от ведущего звена к ведомому передается за счет сил трения,  возникающих между прижатыми друг к другу колесами. Различают фрикционные передачи с постоянным и переменным передаточным отнош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076880" cy="30290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0"/>
          <p:cNvSpPr/>
          <p:nvPr/>
        </p:nvSpPr>
        <p:spPr>
          <a:xfrm>
            <a:off x="1066680" y="57913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икционные передачи с постоянным передаточным отно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380880" y="1447920"/>
            <a:ext cx="838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икционные передачи с бесступенчатым изменением передаточного отношения называются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ариаторам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вариаторах плавное регулирование передаточного отношения осуществляется на ходу изменением рабочих радиусов ведущего R1 и ведомого R2 звеньев (или обоих радиусов R1 и R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0"/>
          <p:cNvSpPr/>
          <p:nvPr/>
        </p:nvSpPr>
        <p:spPr>
          <a:xfrm>
            <a:off x="5486400" y="2666880"/>
            <a:ext cx="3276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— лобовой (торцевой) вариа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 — сдвоенный лобовой вариатор; в— реверсивный лобовой вариа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— конусный вариат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 — конусный вариат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 — вариатор с конусными барабанами и промежуточным, роли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, з — вариаторы с конусными барабанами и кольц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к —клиноременные вариаторы с раздвижными кону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, м, н — грибовидные вариатор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- шариковый вариат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 и р — соосные вариаторы с промежуточными роли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rcRect l="0" t="0" r="0" b="6452"/>
          <a:stretch/>
        </p:blipFill>
        <p:spPr>
          <a:xfrm>
            <a:off x="380880" y="2514600"/>
            <a:ext cx="495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33520" y="152424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риаторы имеют диапазон регулир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2019240" cy="2570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17910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8120" cy="2570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533520" y="231948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беспечения заданного передаточного отношения при проектировании упругое скольжение учитывается коэффициентом а = 1,002-7-1,03. В этом случ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6"/>
          <p:cNvSpPr/>
          <p:nvPr/>
        </p:nvSpPr>
        <p:spPr>
          <a:xfrm>
            <a:off x="609480" y="350532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ая сила прижатия колес S, нормальная к  поверхностям их контакта, определяется из условия работы передачи без проскальзывания (без буксования) в зависимости от  наибольшей окружной си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4"/>
          <a:srcRect l="37684" t="64021" r="37684" b="0"/>
          <a:stretch/>
        </p:blipFill>
        <p:spPr>
          <a:xfrm>
            <a:off x="3657600" y="4343400"/>
            <a:ext cx="1295280" cy="343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5"/>
          <a:srcRect l="0" t="25476" r="0" b="0"/>
          <a:stretch/>
        </p:blipFill>
        <p:spPr>
          <a:xfrm>
            <a:off x="685800" y="4648320"/>
            <a:ext cx="5210280" cy="1114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6"/>
          <a:stretch/>
        </p:blipFill>
        <p:spPr>
          <a:xfrm>
            <a:off x="6477120" y="4267080"/>
            <a:ext cx="1676160" cy="221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"/>
          <p:cNvPicPr/>
          <p:nvPr/>
        </p:nvPicPr>
        <p:blipFill>
          <a:blip r:embed="rId7"/>
          <a:stretch/>
        </p:blipFill>
        <p:spPr>
          <a:xfrm>
            <a:off x="609480" y="5715000"/>
            <a:ext cx="521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457200" y="145008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и гибкой связью применяются для передачи вращения между валами при больших межосевых расстояниях и для  преобразования вращательного движения в прямолинейное, 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rcRect l="0" t="0" r="0" b="4917"/>
          <a:stretch/>
        </p:blipFill>
        <p:spPr>
          <a:xfrm>
            <a:off x="304920" y="2209680"/>
            <a:ext cx="451476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0"/>
          <p:cNvSpPr/>
          <p:nvPr/>
        </p:nvSpPr>
        <p:spPr>
          <a:xfrm>
            <a:off x="4800600" y="2362320"/>
            <a:ext cx="4038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и гибкой связью применяются для передачи вращения между валами при больших межосевых расстояниях и для  преобразования вращательного движения в прямолинейное, и наоборот. Передача состоит из ведущего и ведомого колес (роликов, шкивов, барабанов или звездочек) и охватывающей их гибкой связ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и гибкой связью могут иметь передаточные отношения: постоянные (г-к), переменные (б, в), ступенчато изменяющиеся (в) и бесступенчато изменяющиеся (б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1"/>
          <p:cNvSpPr/>
          <p:nvPr/>
        </p:nvSpPr>
        <p:spPr>
          <a:xfrm>
            <a:off x="4876920" y="502920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характеру сцепления гибкой связи с колесами передачи разделяются: на передачи с непосредственным соединением (а - в); передачи зацеплением (г); передачи трением ( д-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чаты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0" t="0" r="0" b="58479"/>
          <a:stretch/>
        </p:blipFill>
        <p:spPr>
          <a:xfrm>
            <a:off x="762120" y="1600200"/>
            <a:ext cx="762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икционные передачи и передачи гибк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2"/>
          <p:cNvSpPr/>
          <p:nvPr/>
        </p:nvSpPr>
        <p:spPr>
          <a:xfrm>
            <a:off x="762120" y="16002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честве гибкой связи примен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шнуры шелковые, хлопчатобумажные, нейлоновые и кожа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тальные  канати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тальные лен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лоские ремн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клиновые ремни трапециевидного с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Шнуры круглого сечения"/>
          <p:cNvPicPr/>
          <p:nvPr/>
        </p:nvPicPr>
        <p:blipFill>
          <a:blip r:embed="rId1"/>
          <a:stretch/>
        </p:blipFill>
        <p:spPr>
          <a:xfrm>
            <a:off x="6248520" y="1523880"/>
            <a:ext cx="2095560" cy="19051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Приводные ремни — купить в интернет-магазине Промышленная Автоматизация |  Цены на Приводные ремни"/>
          <p:cNvPicPr/>
          <p:nvPr/>
        </p:nvPicPr>
        <p:blipFill>
          <a:blip r:embed="rId2"/>
          <a:stretch/>
        </p:blipFill>
        <p:spPr>
          <a:xfrm>
            <a:off x="6553080" y="426708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Чем отличается клиновый ремень от поликлинового?"/>
          <p:cNvPicPr/>
          <p:nvPr/>
        </p:nvPicPr>
        <p:blipFill>
          <a:blip r:embed="rId3"/>
          <a:srcRect l="54173" t="0" r="0" b="0"/>
          <a:stretch/>
        </p:blipFill>
        <p:spPr>
          <a:xfrm>
            <a:off x="762120" y="4114800"/>
            <a:ext cx="2057400" cy="2079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Ремень приводной зубчатый 190XL031 | Барс-Гидравлик Групп"/>
          <p:cNvPicPr/>
          <p:nvPr/>
        </p:nvPicPr>
        <p:blipFill>
          <a:blip r:embed="rId4"/>
          <a:stretch/>
        </p:blipFill>
        <p:spPr>
          <a:xfrm>
            <a:off x="3124080" y="4267080"/>
            <a:ext cx="319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ачковые мех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5"/>
          <p:cNvSpPr/>
          <p:nvPr/>
        </p:nvSpPr>
        <p:spPr>
          <a:xfrm>
            <a:off x="457200" y="1295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ачковые механизмы используются для воспроизведения заданного закона движения рабочего звена или для сообщения ему требуемых перемещений с остановами заданной продол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rcRect l="14149" t="0" r="13556" b="69706"/>
          <a:stretch/>
        </p:blipFill>
        <p:spPr>
          <a:xfrm>
            <a:off x="380880" y="2514600"/>
            <a:ext cx="4819680" cy="3352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6"/>
          <p:cNvSpPr/>
          <p:nvPr/>
        </p:nvSpPr>
        <p:spPr>
          <a:xfrm>
            <a:off x="5334120" y="2514600"/>
            <a:ext cx="35049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ачковый механизм состоит из трех звеньев: 1 - ведущего кулачка; 2 - рабочего (ведомого) толкателя и 3 -стой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личина перемещений (S или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и закон движения рабочего звена механизма определяются профилем кулач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иль кулачка характеризуется следующими основными элементами:     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наименьшим радиус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 -  наибольшим радиус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βу-углом удаления рабочего звена от центра кулачк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βдс -углом дальнего стоя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βп -углом приближ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βбс - углом ближнего стоя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углы называются рабочими углами кулачк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ачковые мех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6"/>
          <p:cNvSpPr/>
          <p:nvPr/>
        </p:nvSpPr>
        <p:spPr>
          <a:xfrm>
            <a:off x="5257800" y="1523880"/>
            <a:ext cx="3581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еханизмы делятся на плоские и пространственные. Применяются механизмы с конусным (а), плоским ( в), сферическим ( ё) и роликовым (б, р) толка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овое замыкание открытых кинематических пар кулачок-толкатель обычно осуществляется пружинами, а геометрическое - соответствующей формой кулачка и толкателя (г, д, з, о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конструкции кулачков различают механиз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 с дисковыми открытыми (а, б, в, и, к) и дисковыми пазовыми (д) кулачк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 цилиндрическими торцевыми (открытыми) (ж, л, м) и барабанными пазовыми (з) кулачка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с плоскими открытыми (н, п) и закрытыми (б) кулачками, движущимися возвратно-поступа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0" t="34083" r="0" b="2487"/>
          <a:stretch/>
        </p:blipFill>
        <p:spPr>
          <a:xfrm>
            <a:off x="304920" y="1295280"/>
            <a:ext cx="4848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ачковые мех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6"/>
          <p:cNvSpPr/>
          <p:nvPr/>
        </p:nvSpPr>
        <p:spPr>
          <a:xfrm>
            <a:off x="5257800" y="1523880"/>
            <a:ext cx="358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а полоски контакта В толкателя с кулачком определяется из условий ограничения удельного дав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= Р/[р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[р] = 40-80 Н/мм-допускаемое удельное давление для кулачка и толкателя из ста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строходные кулачки изготавливают из стали 20 или 20Х, цементируют и закаливают до HRC 56—62. Иногда применяются стали 45 и 40Х, а при больших удельных давлениях сталь ШХ12. Кулачки подвергают закалке и отпуску. Для уменьшения износа рабочие поверхности кулачка и толкателя шлиф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324320" cy="3390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13"/>
          <p:cNvSpPr/>
          <p:nvPr/>
        </p:nvSpPr>
        <p:spPr>
          <a:xfrm>
            <a:off x="609480" y="15238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еры конструкции кулачковых мех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чажные механизмы (перед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2"/>
          <p:cNvSpPr/>
          <p:nvPr/>
        </p:nvSpPr>
        <p:spPr>
          <a:xfrm>
            <a:off x="457200" y="144792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иборах наиболее широкое применение получили трех- и четырехзвенные рычажные механизмы. К ним относятся: синусный, тангенсный поводковый, кривошипно-ползунный четырехшарнирный кулисный и другие механиз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rcRect l="54290" t="0" r="0" b="12502"/>
          <a:stretch/>
        </p:blipFill>
        <p:spPr>
          <a:xfrm>
            <a:off x="5486400" y="26668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rcRect l="0" t="0" r="0" b="6879"/>
          <a:stretch/>
        </p:blipFill>
        <p:spPr>
          <a:xfrm>
            <a:off x="1219320" y="2590920"/>
            <a:ext cx="2314440" cy="16761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7"/>
          <p:cNvSpPr/>
          <p:nvPr/>
        </p:nvSpPr>
        <p:spPr>
          <a:xfrm>
            <a:off x="1452240" y="4495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усный механ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8"/>
          <p:cNvSpPr/>
          <p:nvPr/>
        </p:nvSpPr>
        <p:spPr>
          <a:xfrm>
            <a:off x="5484600" y="449568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генсный механ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9"/>
          <p:cNvSpPr/>
          <p:nvPr/>
        </p:nvSpPr>
        <p:spPr>
          <a:xfrm>
            <a:off x="3425040" y="426708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толкатель; 2 - рыч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3"/>
          <a:srcRect l="0" t="0" r="63717" b="11064"/>
          <a:stretch/>
        </p:blipFill>
        <p:spPr>
          <a:xfrm>
            <a:off x="1600200" y="4876920"/>
            <a:ext cx="1600200" cy="228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4"/>
          <a:srcRect l="0" t="0" r="56572" b="0"/>
          <a:stretch/>
        </p:blipFill>
        <p:spPr>
          <a:xfrm>
            <a:off x="1600200" y="5867280"/>
            <a:ext cx="1447920" cy="381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5"/>
          <a:srcRect l="0" t="0" r="66004" b="7715"/>
          <a:stretch/>
        </p:blipFill>
        <p:spPr>
          <a:xfrm>
            <a:off x="5715000" y="4876920"/>
            <a:ext cx="1447920" cy="228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6"/>
          <a:srcRect l="0" t="0" r="56080" b="0"/>
          <a:stretch/>
        </p:blipFill>
        <p:spPr>
          <a:xfrm>
            <a:off x="5715000" y="5943600"/>
            <a:ext cx="1447920" cy="371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7"/>
          <a:srcRect l="44930" t="0" r="18795" b="11064"/>
          <a:stretch/>
        </p:blipFill>
        <p:spPr>
          <a:xfrm>
            <a:off x="1600200" y="5410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417" name="TextBox 24"/>
          <p:cNvSpPr/>
          <p:nvPr/>
        </p:nvSpPr>
        <p:spPr>
          <a:xfrm>
            <a:off x="2137680" y="5105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5"/>
          <p:cNvSpPr/>
          <p:nvPr/>
        </p:nvSpPr>
        <p:spPr>
          <a:xfrm>
            <a:off x="6176160" y="5105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8"/>
          <a:srcRect l="42951" t="0" r="26622" b="7715"/>
          <a:stretch/>
        </p:blipFill>
        <p:spPr>
          <a:xfrm>
            <a:off x="5715000" y="5410080"/>
            <a:ext cx="1295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чажные механизмы (перед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2"/>
          <p:cNvSpPr/>
          <p:nvPr/>
        </p:nvSpPr>
        <p:spPr>
          <a:xfrm>
            <a:off x="457200" y="129528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одковый механизм относится к пространственным механизмам. Поводковый  механизм, состоит из двух валиков 1 и 2 и жестко прикрепленных к ним поводков 3 и 4. Чаще других применяются поводковые механизмы с валиками и поводками, расположенными под углом 90° друг к друг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962600" cy="3240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rcRect l="0" t="0" r="19824" b="8541"/>
          <a:stretch/>
        </p:blipFill>
        <p:spPr>
          <a:xfrm>
            <a:off x="2743200" y="5562720"/>
            <a:ext cx="350532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rcRect l="0" t="0" r="10043" b="42863"/>
          <a:stretch/>
        </p:blipFill>
        <p:spPr>
          <a:xfrm>
            <a:off x="533520" y="5867280"/>
            <a:ext cx="4267080" cy="533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4"/>
          <a:srcRect l="3211" t="57176" r="10043" b="0"/>
          <a:stretch/>
        </p:blipFill>
        <p:spPr>
          <a:xfrm>
            <a:off x="4800600" y="6019920"/>
            <a:ext cx="41148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ошипно-ползунный механизм (переда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304920" y="419832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ами, определяющими кинематику этих механизмов, являются отнош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г-радиус кривошипа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лина шатуна; у-эксцентрисит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часто применяется λ = 1/4- 1/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514520" cy="1717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9"/>
          <p:cNvSpPr/>
          <p:nvPr/>
        </p:nvSpPr>
        <p:spPr>
          <a:xfrm>
            <a:off x="4445640" y="1800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3"/>
          <p:cNvSpPr/>
          <p:nvPr/>
        </p:nvSpPr>
        <p:spPr>
          <a:xfrm>
            <a:off x="2292120" y="350532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сиальный (у 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211464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25"/>
          <p:cNvSpPr/>
          <p:nvPr/>
        </p:nvSpPr>
        <p:spPr>
          <a:xfrm>
            <a:off x="5039280" y="350208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аксиального (у ≠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3"/>
          <a:stretch/>
        </p:blipFill>
        <p:spPr>
          <a:xfrm>
            <a:off x="1981080" y="5943600"/>
            <a:ext cx="47815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ы прерывист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445640" y="1800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rcRect l="0" t="0" r="0" b="6141"/>
          <a:stretch/>
        </p:blipFill>
        <p:spPr>
          <a:xfrm>
            <a:off x="380880" y="1981080"/>
            <a:ext cx="5289840" cy="373392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19"/>
          <p:cNvSpPr/>
          <p:nvPr/>
        </p:nvSpPr>
        <p:spPr>
          <a:xfrm>
            <a:off x="2593800" y="114300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с мальтийским кре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5638680" y="2362320"/>
            <a:ext cx="32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механизмы применяются для преобразования обычно равномерного вращательного движения ведущего звена-кривошипа в периодические повороты с остановками определенной продолжительности ведомого звена-креста. К. п. д. механизмов 0,75- 0,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радиальных паз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еста бывает от 3 до 1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ы прерывист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445640" y="1800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9"/>
          <p:cNvSpPr/>
          <p:nvPr/>
        </p:nvSpPr>
        <p:spPr>
          <a:xfrm>
            <a:off x="3135600" y="1143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повые механ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20"/>
          <p:cNvSpPr/>
          <p:nvPr/>
        </p:nvSpPr>
        <p:spPr>
          <a:xfrm>
            <a:off x="533520" y="1905120"/>
            <a:ext cx="327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аповые механизмы используются для преобразования колебательного движения ведущего звена во вращательное или поступательное движение с остановками ведомого звена. Кроме того, они применяются как механизмы, препятствующие движению ведомых звеньев в одном направлении и допускающие свободное движение их в противоположном направл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аповые механизмы используются в шаговых искателях, реле времени самопишущих и других приборах различного  назна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rcRect l="0" t="0" r="0" b="6983"/>
          <a:stretch/>
        </p:blipFill>
        <p:spPr>
          <a:xfrm>
            <a:off x="4114800" y="1905120"/>
            <a:ext cx="4653000" cy="28954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609480" y="526032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струкции и принципу работы храповые механизмы делятся: а) на зубчатые (а, б, в); б) фрикционные с шариками или роликами (г, д); в) фрикционные с эксцентриками (е, ж). Различают механизмы с  внешним (а, г, е), внутренним (б, д, ж) и  торцевым (в) зацепл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3544920" y="49428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вочная 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445640" y="10368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4445640" y="1800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424240" cy="27432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2"/>
          <a:srcRect l="0" t="24361" r="0" b="0"/>
          <a:stretch/>
        </p:blipFill>
        <p:spPr>
          <a:xfrm>
            <a:off x="1066680" y="1447920"/>
            <a:ext cx="6724800" cy="2247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"/>
          <p:cNvPicPr/>
          <p:nvPr/>
        </p:nvPicPr>
        <p:blipFill>
          <a:blip r:embed="rId3"/>
          <a:srcRect l="0" t="82798" r="21295" b="0"/>
          <a:stretch/>
        </p:blipFill>
        <p:spPr>
          <a:xfrm>
            <a:off x="609480" y="5486400"/>
            <a:ext cx="5105520" cy="190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4"/>
          <a:srcRect l="37591" t="34499" r="53012" b="24134"/>
          <a:stretch/>
        </p:blipFill>
        <p:spPr>
          <a:xfrm>
            <a:off x="2895480" y="457200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чатые передачи. Класс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80880" y="10666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взаимному расположению ос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лов разделяют на передач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цилиндрическими колесами с параллельными осями валов ( а, б, д - ж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едачи коническими колесами с  пересекающимися осями валов (г, з, л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По числу ступ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о числу пар колес) зубчатые передачи делятся н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дноступенчатые ( а, б, г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ногоступенчатые ( е, з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они могут иметь передаточное отношение постоянное (редукторы) и меняющееся ступенями (коробки скоростей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виду зацепления зубь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 передач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внешним ( 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нутренним (б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еечным 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расположению зубь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носительно образующей обода колеса различаю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едачи прямозубые (I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созубые (II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евронные (III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криволинейными или круговыми зубьями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убьев различают передачи с эвольвентным зацеплением - стандартным, имеющим наибольшее применение, и передачи с неэвольвентным зацеплением - циклоидальным, часовым, цевочным и зацеплением Новиков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конструктивному выполнению корпу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и делятся на открытые и закрыты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окружной скор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и дел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тихоходные (v&lt;3 м/с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нескоростные (v =3-5 м/с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ыстроходные (v &gt; 15 м/с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 величине передаваемого крутящего момен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и делятся на  силовые, приборные и отсчет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убчатые передачи используются как для понижения (редукции), так и для повышения угловой скорости двигателя до требуемой угловой скорости рабочего звена. Первые называются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дуктор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торые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ультипликатор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чатые передачи. Параметры исходного контура в соответствии с ГОСТ 13755-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Построение картины внешнего эвольвентного зацепления"/>
          <p:cNvPicPr/>
          <p:nvPr/>
        </p:nvPicPr>
        <p:blipFill>
          <a:blip r:embed="rId1"/>
          <a:stretch/>
        </p:blipFill>
        <p:spPr>
          <a:xfrm>
            <a:off x="228600" y="1600200"/>
            <a:ext cx="444348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0" t="0" r="12395" b="0"/>
          <a:stretch/>
        </p:blipFill>
        <p:spPr>
          <a:xfrm>
            <a:off x="4876920" y="3657600"/>
            <a:ext cx="4038480" cy="19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dokipedia.ru/sites/default/files/doc_files/511/217/9/files/image1.gif"/>
          <p:cNvPicPr/>
          <p:nvPr/>
        </p:nvPicPr>
        <p:blipFill>
          <a:blip r:embed="rId3"/>
          <a:stretch/>
        </p:blipFill>
        <p:spPr>
          <a:xfrm>
            <a:off x="5257800" y="1523880"/>
            <a:ext cx="33336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и точности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казатели точности (допуски) зубчатых передач  опреде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цилиндрических зубчатых колес модулем зацепления 0,1 ≤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&lt; 1 мм устанавливаются ГОСТ 9178-72 и с модул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≥ 1 мм - ГОСТ 1643-7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нических зубчатых колес модулем зацепления 0,1 ≤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&lt; 1 мм устанавливаются ГОСТ 9368-81 и с модул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≥ 1 мм - ГОСТ 1758-81;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33520" y="4114800"/>
            <a:ext cx="8076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зубчатые передачи и механически обработанные колеса по точности изготовления разделяются на 12 степеней точности. Широкое распространение получили передачи 5, 6, 7 и 8-й  степени точности. Для каждой степени точности зубчатых колес и передач установлены нор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инематической то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ости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а зубьев колес и пере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кинематической точности зубчатых пере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267080" y="1828800"/>
            <a:ext cx="426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ы кинематической точности определяются требованиями к параметрам колеса, обеспечивающими минимальное отклонение передаточного отношения передачи. Одним из показателей кинематической точности зубчатого колеса является наибольшая кинематическая погрешность зубчатого колеса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 -наибольшая алгебраическая разность значений кинематической погрешности зубчатого колеса в пределах его полного обор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2401" t="11338" r="69417" b="20692"/>
          <a:stretch/>
        </p:blipFill>
        <p:spPr>
          <a:xfrm>
            <a:off x="685800" y="243828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5:23:50Z</dcterms:created>
  <dc:creator>Николай Коваль</dc:creator>
  <dc:description/>
  <dc:language>en-US</dc:language>
  <cp:lastModifiedBy>Иванов</cp:lastModifiedBy>
  <dcterms:modified xsi:type="dcterms:W3CDTF">2022-11-03T08:19:01Z</dcterms:modified>
  <cp:revision>2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