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7AC-D647-44D9-98FE-38EAD569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091-462A-49D0-9ADD-0FBAE76A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7D5-E5AE-43A0-B10F-985C45A7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5FD-56D8-428C-9274-44EBF9C9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D62-D908-4A5F-B0D4-2DE31A91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CDF-6B07-473B-BF97-BD1FD95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66D-041B-4D38-8F9B-6080048B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7A8-5FF4-41DB-9AE3-256B5FFA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D5A-6401-46EE-803F-372A6C3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1EA-BDCB-47AF-AF81-E5AAADD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8BF-4D30-4CE8-89D0-2796964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6CF-4601-4B8F-A1A3-B75A05ED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CD8-A618-4916-918B-5AB8638AE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ектирования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806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1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идам связей между эле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ометрический мет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основу метода положена структура геометрических и кинематических связей между деталями, представляющая собой систему опорных точек, число и размещение которых зависит от заданных степеней свободы и геометрических свойств твердого тела. Метод целесообразно применят для конструкций, которых должно соблюдаться точное взаимное положение деталей или обеспечиваться их точное перемещение при величинах деформации, значительно меньших погрешностей изготовления дета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шиностроительный мет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основу этого метода положена структура геометрических и кинематических связей между деталями, представляющая собой систему опорных поверхностей, число и размещение которых выбирается исходя их минимизации массы и допустимой прочности констр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пологический мето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снову его положена структура физических связей между электрорадиоэлементами (ЭРЭ), т. е. представление конструктивного ви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иальной схемы и ее геометрической (топологической) связности, независимо от ее функционального содержания. Он используется, если нельзя применить геометрический и машиностроительный мет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пособу выявления и организации 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ей между эле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7616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 проектирования моноконструкц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ан на минимизации числа связей в конструкции, он применяется для создания блоков, на основе оригинальной несущей конструкции (каркасе, шасси) в виде моноузла (моноблока)с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гинальными элементами. Длительное время конструирование велось только с использованием моноконструкци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400800" y="3886200"/>
            <a:ext cx="2238480" cy="2854440"/>
          </a:xfrm>
          <a:prstGeom prst="rect">
            <a:avLst/>
          </a:prstGeom>
          <a:ln w="0">
            <a:noFill/>
          </a:ln>
        </p:spPr>
      </p:pic>
      <p:sp>
        <p:nvSpPr>
          <p:cNvPr id="48" name="Содержимое 2"/>
          <p:cNvSpPr/>
          <p:nvPr/>
        </p:nvSpPr>
        <p:spPr>
          <a:xfrm>
            <a:off x="380880" y="4267080"/>
            <a:ext cx="5562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метод конструирования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у метода положено деление аппаратуры на конструктивно и схемно законченные части. Базовый метод конструирования и его разновидности: функционально-модульный, функционально-узловой и функционально-блочный метод основывается на принципах агрегатирования, функциональной и размерной взаимозаменяемости, схемной и конструкторской унифик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528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й метод констру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981080"/>
            <a:ext cx="84582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о-узлов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заключается в том, что разрабатываемая конструкция расчленяется на функционально законченные узлы, которые могут быть отдельно сконструированы, изготовлены, настроены и испытаны до объединения их в общей конструк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о-модульно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струирование является логическим продолжением функционально-узлового метода. Использование модулей позволяет вследствие единообразия и унификации конструкций дополнительно выиграть в плотности монтажа, подготовке производства, эксплуатации и техническом обслужива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о-блоч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конструирования применяют при относительно несложной конструкции, где выигрыш от упрощения (удешевления) конструкции и увеличение надежности за счет уменьшения числа электрических соединений является решающим. Предельным случаем функционально-блочного метода является моноблочная конструкция прибора, усилителя, генератора и т. 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блочная (а), агрегатная (б) и модульная (в) конструкции ввода электропитания в прибор: выключатель сетевого питания (A), вилка для подключения сетевого шнура (B), переключатель напряжения и держатель плавких вставок (C), выполненные в одном корпусе (D); 1 – выключатель сетевого питания, 2 – переключатель напряжения, 3 – держатели плавких вставок, 4 – вилка для подключения сетевого шн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62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овка пространства при модульном проектир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 базового агрег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4648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8944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4648320" y="1066680"/>
            <a:ext cx="419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 проектирования на основе типовых изделий и типовых констру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 базового метода перед  методом моноконстру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 этапе разработ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ет одновременно вести работу над многими узлами и блоками, что сокращает сроки проведения разработ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ощает отладку и сопряжение узлов в лабора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зко упрощает конструирование и макетир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ает объём оригинальной КД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ет возможность непрерывно совершенствовать аппаратуру без коренных изменений конструкци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ощает и ускоряет внесение изменений в принципиальную схему, конструкцию и К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 этапе производства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ает сроки освоения серийного производства аппаратуры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упрощает сборку, монтаж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снижает требования к квалификации сборщиков и монтажников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снижает стоимость аппаратуры благодаря широкой механизации и автоматизации производства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повышает степень специализации производ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 эксплуатации: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ает эксплуатационную надежность приборов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блегчает обслужива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улучшает ремонтопригодность аппаратур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епени автоматизации выявления 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ей между эле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7432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вристический метод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 обобщённый практический опыт (коллективная мудрость) в области конструирования и смежных отраслей. Метод является основным в практической деятельности конструктор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572000" y="2743200"/>
            <a:ext cx="4191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автоматизированного (автоматического) конструирова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 на использовании ПК для решения задач компоновки прибора, трассировки межсоединений различных структурных уровней, вычерчивания чертежей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ска К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5"/>
          <p:cNvCxnSpPr/>
          <p:nvPr/>
        </p:nvCxnSpPr>
        <p:spPr>
          <a:xfrm flipH="1">
            <a:off x="3733200" y="1447560"/>
            <a:ext cx="6102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7"/>
          <p:cNvCxnSpPr/>
          <p:nvPr/>
        </p:nvCxnSpPr>
        <p:spPr>
          <a:xfrm>
            <a:off x="4342320" y="1447560"/>
            <a:ext cx="6865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2T05:23:50Z</dcterms:created>
  <dc:creator>Николай Коваль</dc:creator>
  <dc:description/>
  <dc:language>en-US</dc:language>
  <cp:lastModifiedBy>Иванов</cp:lastModifiedBy>
  <dcterms:modified xsi:type="dcterms:W3CDTF">2022-11-04T14:32:1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